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9.wmf" ContentType="image/x-wmf"/>
  <Override PartName="/ppt/media/image1.png" ContentType="image/png"/>
  <Override PartName="/ppt/media/image31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56.png" ContentType="image/png"/>
  <Override PartName="/ppt/media/image16.wmf" ContentType="image/x-wmf"/>
  <Override PartName="/ppt/media/image55.png" ContentType="image/png"/>
  <Override PartName="/ppt/media/image2.png" ContentType="image/png"/>
  <Override PartName="/ppt/media/image23.wmf" ContentType="image/x-wmf"/>
  <Override PartName="/ppt/media/image9.jpeg" ContentType="image/jpeg"/>
  <Override PartName="/ppt/media/image51.wmf" ContentType="image/x-wmf"/>
  <Override PartName="/ppt/media/image4.png" ContentType="image/png"/>
  <Override PartName="/ppt/media/image8.jpeg" ContentType="image/jpeg"/>
  <Override PartName="/ppt/media/image41.wmf" ContentType="image/x-wmf"/>
  <Override PartName="/ppt/media/image5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6.wmf" ContentType="image/x-wmf"/>
  <Override PartName="/ppt/media/image38.wmf" ContentType="image/x-wmf"/>
  <Override PartName="/ppt/media/image39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34.wmf" ContentType="image/x-wmf"/>
  <Override PartName="/ppt/media/image46.wmf" ContentType="image/x-wmf"/>
  <Override PartName="/ppt/media/image3.png" ContentType="image/png"/>
  <Override PartName="/ppt/media/image47.wmf" ContentType="image/x-wmf"/>
  <Override PartName="/ppt/media/image37.wmf" ContentType="image/x-wmf"/>
  <Override PartName="/ppt/media/image49.wmf" ContentType="image/x-wmf"/>
  <Override PartName="/ppt/media/image6.png" ContentType="image/png"/>
  <Override PartName="/ppt/media/image14.wmf" ContentType="image/x-wmf"/>
  <Override PartName="/ppt/media/image42.wmf" ContentType="image/x-wmf"/>
  <Override PartName="/ppt/media/image54.wmf" ContentType="image/x-wmf"/>
  <Override PartName="/ppt/media/image33.wmf" ContentType="image/x-wmf"/>
  <Override PartName="/ppt/media/image32.wmf" ContentType="image/x-wmf"/>
  <Override PartName="/ppt/media/image13.png" ContentType="image/png"/>
  <Override PartName="/ppt/media/image53.wmf" ContentType="image/x-wmf"/>
  <Override PartName="/ppt/media/image12.png" ContentType="image/png"/>
  <Override PartName="/ppt/media/image52.wmf" ContentType="image/x-wmf"/>
  <Override PartName="/ppt/media/image40.wmf" ContentType="image/x-wmf"/>
  <Override PartName="/ppt/media/image7.png" ContentType="image/png"/>
  <Override PartName="/ppt/media/image15.wmf" ContentType="image/x-wmf"/>
  <Override PartName="/ppt/media/image11.wmf" ContentType="image/x-wmf"/>
  <Override PartName="/ppt/media/image48.wmf" ContentType="image/x-wmf"/>
  <Override PartName="/ppt/media/image50.wmf" ContentType="image/x-wmf"/>
  <Override PartName="/ppt/media/image10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C2F0-9147-47CF-B56A-86EB373EF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29A0-DF3C-459A-8D4E-45090CB0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A600-DE7C-4650-BFB2-7AD1445B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E319-B178-4858-A691-6B78DC627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42DA8-21A4-4F6E-85FA-C74B4779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2EAFD-BDF0-41DA-AB4B-5A78FD5D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1C376-9062-442D-BB6C-5E36D73D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A0A66-020B-483C-8A21-A5E9EACE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45C5F-0058-48EC-A672-1D9EA19B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C2220-6738-4ED0-A5C5-389BF1F0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33F83-013E-4CC4-A43B-4214FB86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37DB-19B6-4703-BD8C-918D5735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C3F7E-BB86-4F0D-B788-00A01838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A7E1D-340C-4CEB-A7AF-706FBD11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441E6-541C-46EF-A09D-2D0A164E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0C6BF-EA35-4902-BF0E-653859A99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414C6-6AA5-4A41-A9F5-7055743F9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381CB-82D8-4509-800A-227150E3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483CF-06B6-424D-BA1E-7FB62EE0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C5C26-81A5-4589-A054-C48AAB08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D627B-FAB0-48E6-8064-CF1B7F9F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59AE2-FF94-4A9B-9025-8B5FA295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4387-C0EF-4174-B115-D2927797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B34F2-8EDD-4F82-9680-67F378CC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D3DF2-8B8A-45FB-ACD8-A69B3B20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84FF3-FAD9-409C-811D-517653D7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ABFAE-5A76-466A-AA93-970C5E03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DDF5F-9DEA-4FE6-B84C-E4928A21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EA5C9-A180-4C19-BCD9-2E342527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98B26-7DB8-4A12-8176-E7EDAB4D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116F0-87A7-4998-91F1-77A689340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D14D2-2E23-4D9F-99C5-C366EE97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8CBA7-B582-4494-85D2-B4F5A23C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AAE8-4E77-42EB-A49C-6FEF1D44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8D98B-C0B1-432D-A65A-6F5F02EC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F4BDA-1559-4024-A8E9-B021EDB4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75503-088A-4027-B601-79EAE133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A0477-A16D-4D27-A8BB-8B9B53CB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E8AC2-A230-41D0-A3E6-801149A8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350C0-B83C-4077-AF27-653343D5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060D9-9807-4388-822A-DE92815D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0C7D8-2332-451B-BD97-12A7301F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0A49F-E4C9-4F62-AE7D-A822B0DC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2862C-4139-447A-B6BC-FC1CBC0F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434E-5D14-4CA0-9E8E-8582DCDC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3AE64-E916-42FE-A0AC-F102CEE1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1E3EA-46FB-426A-8071-D53731A5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684FF-99AB-4508-A0BC-43F60910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511B3-6D5D-4D95-B82C-9DA0C108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B6630-14ED-4A40-A42C-485C5D09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ECCF9-0534-4B5C-9ED3-EA57DD11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34190-D8E0-4177-8ACF-67266924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006DC-D797-42FC-801E-B25D930C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27A16-170F-4472-A221-7633B035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F2135-8A35-4006-9F10-29E7D4CBC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39F5-6880-4196-84D0-7D89868E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77687-83BB-4059-BDF9-CAD0B5F5B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B15A5-8EB5-4C45-BCAD-A556C7F5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E4273-6314-40DB-A297-C07004ED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D339D-349E-459A-A5A3-AACCB269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3B580-F7FC-4122-A489-BAFC3AA8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1A244-7F37-4A4B-9956-EFA72499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343E3-1F9E-458E-A9A7-F8928873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67307-BB29-4C62-8D8E-0F90C164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EFE6C-5063-494A-B4C1-CACEDCD9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B12B1-4362-4F7A-BFD1-FE273633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0501-0FFF-4AB2-8798-5736DFBF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FC1E5-CFA9-4570-B3E3-8BC39AD8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7F901-074F-43C7-839B-6135AEAE9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F2504-433D-43D3-A995-BA4DF86C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2B22-1B0C-48DD-9C7A-02FAE7A2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1123-C1C5-4DEB-BCA1-B2B1BC26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1CCB-3E49-4B20-82D7-C707C3C11FA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8B31-B936-46B2-B117-C0E4E262C0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227A-2409-4018-A34A-0DE1CC8A71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4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5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5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5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5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5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5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</p:grpSp>
      <p:sp>
        <p:nvSpPr>
          <p:cNvPr id="5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6F39-879D-40CF-ABE9-C6125D35759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F3EC-088A-4EBC-A618-5618908F36F7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24F1-62B7-4969-97D7-47AA2A03B3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45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146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147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148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5D40-0753-4B22-8FAE-BC7BA7542F5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8B57-F2C6-42D3-893F-D7C6812DA6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19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grpSp>
          <p:nvGrpSpPr>
            <p:cNvPr id="19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9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  <p:sp>
            <p:nvSpPr>
              <p:cNvPr id="19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  <p:sp>
            <p:nvSpPr>
              <p:cNvPr id="19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  <p:sp>
            <p:nvSpPr>
              <p:cNvPr id="19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  <p:sp>
            <p:nvSpPr>
              <p:cNvPr id="19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  <p:sp>
            <p:nvSpPr>
              <p:cNvPr id="19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  <p:sp>
            <p:nvSpPr>
              <p:cNvPr id="20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  <p:sp>
            <p:nvSpPr>
              <p:cNvPr id="20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  <p:sp>
            <p:nvSpPr>
              <p:cNvPr id="20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  <p:sp>
            <p:nvSpPr>
              <p:cNvPr id="20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C5C7-AA12-424C-9E7D-0F9AF13E89C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A2DB-C7CB-477E-8810-A61F8A6C42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46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247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  <p:sp>
            <p:nvSpPr>
              <p:cNvPr id="248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250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  <p:sp>
            <p:nvSpPr>
              <p:cNvPr id="251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99ccff"/>
                  </a:solidFill>
                  <a:latin typeface="Times New Roman"/>
                </a:endParaRPr>
              </a:p>
            </p:txBody>
          </p:sp>
        </p:grpSp>
        <p:sp>
          <p:nvSpPr>
            <p:cNvPr id="25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25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  <p:sp>
          <p:nvSpPr>
            <p:cNvPr id="254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5D77-C808-4631-BE81-581DAB5CB640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9396-AB8A-4E8E-A7BF-8B007BCEC8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8.wmf"/><Relationship Id="rId6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9;&#1075;&#1083;&#1077;&#1074;&#1086;&#1076;&#1086;&#1088;&#1086;&#1076;&#1099;" TargetMode="External"/><Relationship Id="rId2" Type="http://schemas.openxmlformats.org/officeDocument/2006/relationships/hyperlink" Target="http://ru.wikipedia.org/wiki/&#1044;&#1074;&#1086;&#1081;&#1085;&#1072;&#1103;_&#1089;&#1074;&#1103;&#1079;&#1100;_%28&#1093;&#1080;&#1084;&#1080;&#1103;%29" TargetMode="External"/><Relationship Id="rId3" Type="http://schemas.openxmlformats.org/officeDocument/2006/relationships/hyperlink" Target="http://ru.wikipedia.org/wiki/&#1059;&#1075;&#1083;&#1077;&#1088;&#1086;&#1076;" TargetMode="External"/><Relationship Id="rId4" Type="http://schemas.openxmlformats.org/officeDocument/2006/relationships/hyperlink" Target="http://ru.wikipedia.org/wiki/&#1043;&#1080;&#1073;&#1088;&#1080;&#1076;&#1080;&#1079;&#1072;&#1094;&#1080;&#1103;_%28&#1093;&#1080;&#1084;&#1080;&#1103;%29" TargetMode="External"/><Relationship Id="rId5" Type="http://schemas.openxmlformats.org/officeDocument/2006/relationships/hyperlink" Target="http://ru.wikipedia.org/wiki/&#1043;&#1080;&#1073;&#1088;&#1080;&#1076;&#1080;&#1079;&#1072;&#1094;&#1080;&#1103;_%28&#1093;&#1080;&#1084;&#1080;&#1103;%29" TargetMode="External"/><Relationship Id="rId6" Type="http://schemas.openxmlformats.org/officeDocument/2006/relationships/hyperlink" Target="http://ru.wikipedia.org/wiki/&#1042;&#1072;&#1083;&#1077;&#1085;&#1090;&#1085;&#1099;&#1081;_&#1091;&#1075;&#1086;&#1083;" TargetMode="External"/><Relationship Id="rId7" Type="http://schemas.openxmlformats.org/officeDocument/2006/relationships/hyperlink" Target="http://ru.wikipedia.org/wiki/&#1069;&#1090;&#1080;&#1083;&#1077;&#1085;" TargetMode="External"/><Relationship Id="rId8" Type="http://schemas.openxmlformats.org/officeDocument/2006/relationships/hyperlink" Target="http://ru.wikipedia.org/wiki/IUPAC" TargetMode="External"/><Relationship Id="rId9" Type="http://schemas.openxmlformats.org/officeDocument/2006/relationships/hyperlink" Target="http://ru.wikipedia.org/wiki/&#1040;&#1083;&#1082;&#1072;&#1085;&#1099;" TargetMode="External"/><Relationship Id="rId10" Type="http://schemas.openxmlformats.org/officeDocument/2006/relationships/slideLayout" Target="../slideLayouts/slideLayout2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84;&#1077;&#1088;" TargetMode="External"/><Relationship Id="rId2" Type="http://schemas.openxmlformats.org/officeDocument/2006/relationships/hyperlink" Target="http://ru.wikipedia.org/wiki/&#1055;&#1088;&#1086;&#1087;&#1080;&#1083;&#1077;&#1085;" TargetMode="External"/><Relationship Id="rId3" Type="http://schemas.openxmlformats.org/officeDocument/2006/relationships/hyperlink" Target="http://ru.wikipedia.org/wiki/&#1062;&#1080;&#1082;&#1083;&#1086;&#1087;&#1088;&#1086;&#1087;&#1072;&#1085;" TargetMode="External"/><Relationship Id="rId4" Type="http://schemas.openxmlformats.org/officeDocument/2006/relationships/hyperlink" Target="http://ru.wikipedia.org/wiki/&#1041;&#1091;&#1090;&#1077;&#1085;" TargetMode="External"/><Relationship Id="rId5" Type="http://schemas.openxmlformats.org/officeDocument/2006/relationships/slideLayout" Target="../slideLayouts/slideLayout2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9;&#1090;&#1077;&#1085;" TargetMode="External"/><Relationship Id="rId2" Type="http://schemas.openxmlformats.org/officeDocument/2006/relationships/hyperlink" Target="http://ru.wikipedia.org/wiki/&#1069;&#1090;&#1080;&#1083;&#1077;&#1085;" TargetMode="External"/><Relationship Id="rId3" Type="http://schemas.openxmlformats.org/officeDocument/2006/relationships/hyperlink" Target="http://ru.wikipedia.org/wiki/&#1055;&#1088;&#1086;&#1087;&#1077;&#1085;" TargetMode="External"/><Relationship Id="rId4" Type="http://schemas.openxmlformats.org/officeDocument/2006/relationships/hyperlink" Target="http://ru.wikipedia.org/wiki/&#1041;&#1091;&#1090;&#1077;&#1085;" TargetMode="External"/><Relationship Id="rId5" Type="http://schemas.openxmlformats.org/officeDocument/2006/relationships/hyperlink" Target="http://ru.wikipedia.org/wiki/&#1055;&#1077;&#1085;&#1090;&#1077;&#1085;" TargetMode="External"/><Relationship Id="rId6" Type="http://schemas.openxmlformats.org/officeDocument/2006/relationships/hyperlink" Target="http://ru.wikipedia.org/w/index.php?title=&#1043;&#1077;&#1082;&#1089;&#1077;&#1085;&amp;action=edit&amp;redlink=1" TargetMode="External"/><Relationship Id="rId7" Type="http://schemas.openxmlformats.org/officeDocument/2006/relationships/hyperlink" Target="http://ru.wikipedia.org/w/index.php?title=&#1043;&#1077;&#1087;&#1090;&#1077;&#1085;&amp;action=edit&amp;redlink=1" TargetMode="External"/><Relationship Id="rId8" Type="http://schemas.openxmlformats.org/officeDocument/2006/relationships/hyperlink" Target="http://ru.wikipedia.org/wiki/&#1054;&#1082;&#1090;&#1077;&#1085;" TargetMode="External"/><Relationship Id="rId9" Type="http://schemas.openxmlformats.org/officeDocument/2006/relationships/hyperlink" Target="http://ru.wikipedia.org/w/index.php?title=&#1053;&#1086;&#1085;&#1077;&#1085;_%28&#1093;&#1080;&#1084;&#1080;&#1103;%29&amp;action=edit&amp;redlink=1" TargetMode="External"/><Relationship Id="rId10" Type="http://schemas.openxmlformats.org/officeDocument/2006/relationships/hyperlink" Target="http://ru.wikipedia.org/w/index.php?title=&#1044;&#1077;&#1094;&#1077;&#1085;&amp;action=edit&amp;redlink=1" TargetMode="External"/><Relationship Id="rId11" Type="http://schemas.openxmlformats.org/officeDocument/2006/relationships/slideLayout" Target="../slideLayouts/slideLayout2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0;&#1073;&#1088;&#1080;&#1076;&#1080;&#1079;&#1072;&#1094;&#1080;&#1103;_%28&#1093;&#1080;&#1084;&#1080;&#1103;%29" TargetMode="External"/><Relationship Id="rId2" Type="http://schemas.openxmlformats.org/officeDocument/2006/relationships/hyperlink" Target="http://ru.wikipedia.org/wiki/&#1060;&#1072;&#1081;&#1083;:Liaison_pi.svg" TargetMode="External"/><Relationship Id="rId3" Type="http://schemas.openxmlformats.org/officeDocument/2006/relationships/hyperlink" Target="http://ru.wikipedia.org/wiki/&#1058;&#1077;&#1086;&#1088;&#1080;&#1103;_&#1084;&#1086;&#1083;&#1077;&#1082;&#1091;&#1083;&#1103;&#1088;&#1085;&#1099;&#1093;_&#1086;&#1088;&#1073;&#1080;&#1090;&#1072;&#1083;&#1077;&#1081;" TargetMode="External"/><Relationship Id="rId4" Type="http://schemas.openxmlformats.org/officeDocument/2006/relationships/hyperlink" Target="http://ru.wikipedia.org/wiki/&#1058;&#1077;&#1086;&#1088;&#1080;&#1103;_&#1084;&#1086;&#1083;&#1077;&#1082;&#1091;&#1083;&#1103;&#1088;&#1085;&#1099;&#1093;_&#1086;&#1088;&#1073;&#1080;&#1090;&#1072;&#1083;&#1077;&#1081;" TargetMode="External"/><Relationship Id="rId5" Type="http://schemas.openxmlformats.org/officeDocument/2006/relationships/hyperlink" Target="http://ru.wikipedia.org/wiki/%C0%EB%EA%E5%ED%FB#cite_note-traven-1" TargetMode="External"/><Relationship Id="rId6" Type="http://schemas.openxmlformats.org/officeDocument/2006/relationships/slideLayout" Target="../slideLayouts/slideLayout2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%C0%EB%EA%E5%ED%FB#cite_note-mazalov-2" TargetMode="External"/><Relationship Id="rId2" Type="http://schemas.openxmlformats.org/officeDocument/2006/relationships/hyperlink" Target="http://ru.wikipedia.org/wiki/%C0%EB%EA%E5%ED%FB#cite_note-mazalov-2" TargetMode="External"/><Relationship Id="rId3" Type="http://schemas.openxmlformats.org/officeDocument/2006/relationships/hyperlink" Target="http://ru.wikipedia.org/wiki/%C0%EB%EA%E5%ED%FB#cite_note-mazalov-2" TargetMode="External"/><Relationship Id="rId4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669_&#1075;&#1086;&#1076;" TargetMode="External"/><Relationship Id="rId2" Type="http://schemas.openxmlformats.org/officeDocument/2006/relationships/hyperlink" Target="http://ru.wikipedia.org/wiki/&#1041;&#1077;&#1093;&#1077;&#1088;,_&#1048;&#1086;&#1075;&#1072;&#1085;&#1085;_&#1048;&#1086;&#1072;&#1093;&#1080;&#1084;" TargetMode="External"/><Relationship Id="rId3" Type="http://schemas.openxmlformats.org/officeDocument/2006/relationships/hyperlink" Target="http://ru.wikipedia.org/wiki/&#1057;&#1077;&#1088;&#1085;&#1072;&#1103;_&#1082;&#1080;&#1089;&#1083;&#1086;&#1090;&#1072;" TargetMode="External"/><Relationship Id="rId4" Type="http://schemas.openxmlformats.org/officeDocument/2006/relationships/hyperlink" Target="http://ru.wikipedia.org/wiki/&#1069;&#1090;&#1080;&#1083;&#1086;&#1074;&#1099;&#1081;_&#1089;&#1087;&#1080;&#1088;&#1090;" TargetMode="External"/><Relationship Id="rId5" Type="http://schemas.openxmlformats.org/officeDocument/2006/relationships/hyperlink" Target="http://ru.wikipedia.org/wiki/%C0%EB%EA%E5%ED%FB#cite_note-3" TargetMode="External"/><Relationship Id="rId6" Type="http://schemas.openxmlformats.org/officeDocument/2006/relationships/hyperlink" Target="http://ru.wikipedia.org/wiki/1795_&#1075;&#1086;&#1076;" TargetMode="External"/><Relationship Id="rId7" Type="http://schemas.openxmlformats.org/officeDocument/2006/relationships/hyperlink" Target="http://ru.wikipedia.org/wiki/&#1044;&#1080;&#1093;&#1083;&#1086;&#1088;&#1101;&#1090;&#1072;&#1085;" TargetMode="External"/><Relationship Id="rId8" Type="http://schemas.openxmlformats.org/officeDocument/2006/relationships/hyperlink" Target="http://ru.wikipedia.org/wiki/&#1060;&#1091;&#1088;&#1082;&#1088;&#1091;&#1072;,_&#1040;&#1085;&#1090;&#1091;&#1072;&#1085;_&#1076;&#1077;" TargetMode="External"/><Relationship Id="rId9" Type="http://schemas.openxmlformats.org/officeDocument/2006/relationships/hyperlink" Target="http://ru.wikipedia.org/wiki/%C0%EB%EA%E5%ED%FB#cite_note-4" TargetMode="External"/><Relationship Id="rId10" Type="http://schemas.openxmlformats.org/officeDocument/2006/relationships/hyperlink" Target="http://ru.wikipedia.org/wiki/&#1043;&#1077;&#1081;-&#1051;&#1102;&#1089;&#1089;&#1072;&#1082;,_&#1046;&#1086;&#1079;&#1077;&#1092;_&#1051;&#1091;&#1080;" TargetMode="External"/><Relationship Id="rId11" Type="http://schemas.openxmlformats.org/officeDocument/2006/relationships/hyperlink" Target="http://ru.wikipedia.org/wiki/%C0%EB%EA%E5%ED%FB#cite_note-old-5" TargetMode="External"/><Relationship Id="rId12" Type="http://schemas.openxmlformats.org/officeDocument/2006/relationships/hyperlink" Target="http://ru.wikipedia.org/wiki/1828_&#1075;&#1086;&#1076;" TargetMode="External"/><Relationship Id="rId13" Type="http://schemas.openxmlformats.org/officeDocument/2006/relationships/hyperlink" Target="http://ru.wikipedia.org/wiki/&#1044;&#1102;&#1084;&#1072;,_&#1046;&#1072;&#1085;_&#1041;&#1072;&#1090;&#1080;&#1089;&#1090;" TargetMode="External"/><Relationship Id="rId14" Type="http://schemas.openxmlformats.org/officeDocument/2006/relationships/hyperlink" Target="http://ru.wikipedia.org/wiki/&#1040;&#1084;&#1084;&#1080;&#1072;&#1082;" TargetMode="External"/><Relationship Id="rId15" Type="http://schemas.openxmlformats.org/officeDocument/2006/relationships/hyperlink" Target="http://ru.wikipedia.org/wiki/&#1041;&#1077;&#1088;&#1094;&#1077;&#1083;&#1080;&#1091;&#1089;,_&#1049;&#1105;&#1085;&#1089;_&#1071;&#1082;&#1086;&#1073;" TargetMode="External"/><Relationship Id="rId16" Type="http://schemas.openxmlformats.org/officeDocument/2006/relationships/hyperlink" Target="http://ru.wikipedia.org/wiki/&#1041;&#1077;&#1088;&#1094;&#1077;&#1083;&#1080;&#1091;&#1089;,_&#1049;&#1105;&#1085;&#1089;_&#1071;&#1082;&#1086;&#1073;" TargetMode="External"/><Relationship Id="rId17" Type="http://schemas.openxmlformats.org/officeDocument/2006/relationships/hyperlink" Target="http://ru.wikipedia.org/wiki/%C0%EB%EA%E5%ED%FB#cite_note-figur-6" TargetMode="External"/><Relationship Id="rId18" Type="http://schemas.openxmlformats.org/officeDocument/2006/relationships/hyperlink" Target="http://ru.wikipedia.org/wiki/&#1042;&#1086;&#1076;&#1086;&#1088;&#1086;&#1076;" TargetMode="External"/><Relationship Id="rId19" Type="http://schemas.openxmlformats.org/officeDocument/2006/relationships/hyperlink" Target="http://ru.wikipedia.org/wiki/&#1059;&#1075;&#1083;&#1077;&#1088;&#1086;&#1076;" TargetMode="External"/><Relationship Id="rId20" Type="http://schemas.openxmlformats.org/officeDocument/2006/relationships/hyperlink" Target="http://ru.wikipedia.org/wiki/1848_&#1075;&#1086;&#1076;" TargetMode="External"/><Relationship Id="rId21" Type="http://schemas.openxmlformats.org/officeDocument/2006/relationships/hyperlink" Target="http://ru.wikipedia.org/wiki/&#1050;&#1086;&#1083;&#1100;&#1073;&#1077;,_&#1040;&#1076;&#1086;&#1083;&#1100;&#1092;_&#1042;&#1080;&#1083;&#1100;&#1075;&#1077;&#1083;&#1100;&#1084;_&#1043;&#1077;&#1088;&#1084;&#1072;&#1085;" TargetMode="External"/><Relationship Id="rId22" Type="http://schemas.openxmlformats.org/officeDocument/2006/relationships/hyperlink" Target="http://ru.wikipedia.org/wiki/&#1051;&#1080;&#1073;&#1080;&#1093;,_&#1070;&#1089;&#1090;&#1091;&#1089;" TargetMode="External"/><Relationship Id="rId23" Type="http://schemas.openxmlformats.org/officeDocument/2006/relationships/hyperlink" Target="http://ru.wikipedia.org/wiki/&#1044;&#1102;&#1084;&#1072;,_&#1046;&#1072;&#1085;_&#1041;&#1072;&#1090;&#1080;&#1089;&#1090;" TargetMode="External"/><Relationship Id="rId24" Type="http://schemas.openxmlformats.org/officeDocument/2006/relationships/hyperlink" Target="http://ru.wikipedia.org/wiki/%C0%EB%EA%E5%ED%FB#cite_note-old-5" TargetMode="External"/><Relationship Id="rId25" Type="http://schemas.openxmlformats.org/officeDocument/2006/relationships/hyperlink" Target="http://ru.wikipedia.org/wiki/1862_&#1075;&#1086;&#1076;" TargetMode="External"/><Relationship Id="rId26" Type="http://schemas.openxmlformats.org/officeDocument/2006/relationships/hyperlink" Target="http://ru.wikipedia.org/wiki/&#1069;&#1088;&#1083;&#1077;&#1085;&#1084;&#1077;&#1081;&#1077;&#1088;,_&#1069;&#1084;&#1080;&#1083;&#1100;" TargetMode="External"/><Relationship Id="rId27" Type="http://schemas.openxmlformats.org/officeDocument/2006/relationships/hyperlink" Target="http://ru.wikipedia.org/wiki/1870_&#1075;&#1086;&#1076;" TargetMode="External"/><Relationship Id="rId28" Type="http://schemas.openxmlformats.org/officeDocument/2006/relationships/hyperlink" Target="http://ru.wikipedia.org/wiki/&#1041;&#1091;&#1090;&#1083;&#1077;&#1088;&#1086;&#1074;,_&#1040;&#1083;&#1077;&#1082;&#1089;&#1072;&#1085;&#1076;&#1088;_&#1052;&#1080;&#1093;&#1072;&#1081;&#1083;&#1086;&#1074;&#1080;&#1095;" TargetMode="External"/><Relationship Id="rId29" Type="http://schemas.openxmlformats.org/officeDocument/2006/relationships/hyperlink" Target="http://ru.wikipedia.org/wiki/%C0%EB%EA%E5%ED%FB#cite_note-7" TargetMode="External"/><Relationship Id="rId30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%C0%EB%EA%E5%ED%FB#cite_note-8" TargetMode="External"/><Relationship Id="rId2" Type="http://schemas.openxmlformats.org/officeDocument/2006/relationships/hyperlink" Target="http://ru.wikipedia.org/wiki/&#1069;&#1090;&#1080;&#1083;&#1077;&#1085;" TargetMode="External"/><Relationship Id="rId3" Type="http://schemas.openxmlformats.org/officeDocument/2006/relationships/hyperlink" Target="http://ru.wikipedia.org/wiki/&#1060;&#1080;&#1090;&#1086;&#1075;&#1086;&#1088;&#1084;&#1086;&#1085;&#1099;" TargetMode="External"/><Relationship Id="rId4" Type="http://schemas.openxmlformats.org/officeDocument/2006/relationships/hyperlink" Target="http://ru.wikipedia.org/w/index.php?title=&#1052;&#1091;&#1089;&#1082;&#1072;&#1083;&#1091;&#1088;&amp;action=edit&amp;redlink=1" TargetMode="External"/><Relationship Id="rId5" Type="http://schemas.openxmlformats.org/officeDocument/2006/relationships/hyperlink" Target="http://ru.wikipedia.org/wiki/&#1060;&#1077;&#1088;&#1086;&#1084;&#1086;&#1085;&#1099;" TargetMode="External"/><Relationship Id="rId6" Type="http://schemas.openxmlformats.org/officeDocument/2006/relationships/hyperlink" Target="http://ru.wikipedia.org/wiki/&#1052;&#1091;&#1093;&#1072;_&#1076;&#1086;&#1084;&#1072;&#1096;&#1085;&#1103;&#1103;" TargetMode="External"/><Relationship Id="rId7" Type="http://schemas.openxmlformats.org/officeDocument/2006/relationships/hyperlink" Target="http://ru.wikipedia.org/wiki/&#1053;&#1072;&#1088;&#1082;&#1086;&#1079;" TargetMode="External"/><Relationship Id="rId8" Type="http://schemas.openxmlformats.org/officeDocument/2006/relationships/hyperlink" Target="http://ru.wikipedia.org/wiki/%C0%EB%EA%E5%ED%FB#cite_note-chemanalytica-9" TargetMode="External"/><Relationship Id="rId9" Type="http://schemas.openxmlformats.org/officeDocument/2006/relationships/hyperlink" Target="http://ru.wikipedia.org/wiki/&#1069;&#1090;&#1080;&#1083;&#1077;&#1085;" TargetMode="External"/><Relationship Id="rId10" Type="http://schemas.openxmlformats.org/officeDocument/2006/relationships/hyperlink" Target="http://ru.wikipedia.org/wiki/&#1052;&#1091;&#1090;&#1072;&#1075;&#1077;&#1085;&#1099;" TargetMode="External"/><Relationship Id="rId11" Type="http://schemas.openxmlformats.org/officeDocument/2006/relationships/hyperlink" Target="http://ru.wikipedia.org/wiki/&#1055;&#1088;&#1086;&#1087;&#1080;&#1083;&#1077;&#1085;" TargetMode="External"/><Relationship Id="rId12" Type="http://schemas.openxmlformats.org/officeDocument/2006/relationships/hyperlink" Target="http://ru.wikipedia.org/wiki/&#1041;&#1091;&#1090;&#1080;&#1083;&#1077;&#1085;" TargetMode="External"/><Relationship Id="rId13" Type="http://schemas.openxmlformats.org/officeDocument/2006/relationships/hyperlink" Target="http://ru.wikipedia.org/wiki/%C0%EB%EA%E5%ED%FB#cite_note-chemanalytica-9" TargetMode="External"/><Relationship Id="rId14" Type="http://schemas.openxmlformats.org/officeDocument/2006/relationships/slideLayout" Target="../slideLayouts/slideLayout2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86;&#1088;&#1084;&#1072;&#1083;&#1100;&#1085;&#1099;&#1077;_&#1091;&#1089;&#1083;&#1086;&#1074;&#1080;&#1103;" TargetMode="External"/><Relationship Id="rId2" Type="http://schemas.openxmlformats.org/officeDocument/2006/relationships/hyperlink" Target="http://ru.wikipedia.org/wiki/&#1042;&#1086;&#1076;&#1072;" TargetMode="External"/><Relationship Id="rId3" Type="http://schemas.openxmlformats.org/officeDocument/2006/relationships/hyperlink" Target="http://ru.wikipedia.org/wiki/&#1054;&#1088;&#1075;&#1072;&#1085;&#1080;&#1095;&#1077;&#1089;&#1082;&#1080;&#1077;_&#1088;&#1072;&#1089;&#1090;&#1074;&#1086;&#1088;&#1080;&#1090;&#1077;&#1083;&#1080;" TargetMode="External"/><Relationship Id="rId4" Type="http://schemas.openxmlformats.org/officeDocument/2006/relationships/slideLayout" Target="../slideLayouts/slideLayout2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8;&#1077;&#1082;&#1080;&#1085;&#1075;" TargetMode="External"/><Relationship Id="rId2" Type="http://schemas.openxmlformats.org/officeDocument/2006/relationships/hyperlink" Target="http://ru.wikipedia.org/wiki/&#1059;&#1075;&#1083;&#1077;&#1074;&#1086;&#1076;&#1086;&#1088;&#1086;&#1076;&#1099;" TargetMode="External"/><Relationship Id="rId3" Type="http://schemas.openxmlformats.org/officeDocument/2006/relationships/hyperlink" Target="http://ru.wikipedia.org/wiki/&#1053;&#1077;&#1092;&#1090;&#1100;" TargetMode="External"/><Relationship Id="rId4" Type="http://schemas.openxmlformats.org/officeDocument/2006/relationships/hyperlink" Target="http://ru.wikipedia.org/wiki/&#1055;&#1088;&#1080;&#1088;&#1086;&#1076;&#1085;&#1099;&#1081;_&#1075;&#1072;&#1079;" TargetMode="External"/><Relationship Id="rId5" Type="http://schemas.openxmlformats.org/officeDocument/2006/relationships/hyperlink" Target="http://ru.wikipedia.org/wiki/&#1044;&#1077;&#1075;&#1080;&#1076;&#1088;&#1072;&#1090;&#1072;&#1094;&#1080;&#1103;" TargetMode="External"/><Relationship Id="rId6" Type="http://schemas.openxmlformats.org/officeDocument/2006/relationships/hyperlink" Target="http://ru.wikipedia.org/wiki/&#1057;&#1087;&#1080;&#1088;&#1090;&#1099;" TargetMode="External"/><Relationship Id="rId7" Type="http://schemas.openxmlformats.org/officeDocument/2006/relationships/hyperlink" Target="http://ru.wikipedia.org/wiki/%C0%EB%EA%E5%ED%FB#cite_note-traven-1" TargetMode="External"/><Relationship Id="rId8" Type="http://schemas.openxmlformats.org/officeDocument/2006/relationships/hyperlink" Target="http://ru.wikipedia.org/wiki/%C0%EB%EA%E5%ED%FB#cite_note-11" TargetMode="External"/><Relationship Id="rId9" Type="http://schemas.openxmlformats.org/officeDocument/2006/relationships/slideLayout" Target="../slideLayouts/slideLayout2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%C0%EB%EA%E5%ED%FB#cite_note-12" TargetMode="External"/><Relationship Id="rId2" Type="http://schemas.openxmlformats.org/officeDocument/2006/relationships/hyperlink" Target="http://ru.wikipedia.org/wiki/%C0%EB%EA%E5%ED%FB#cite_note-13" TargetMode="External"/><Relationship Id="rId3" Type="http://schemas.openxmlformats.org/officeDocument/2006/relationships/hyperlink" Target="http://ru.wikipedia.org/wiki/&#1054;&#1082;&#1089;&#1080;&#1076;_&#1093;&#1088;&#1086;&#1084;&#1072;%28III%29" TargetMode="External"/><Relationship Id="rId4" Type="http://schemas.openxmlformats.org/officeDocument/2006/relationships/hyperlink" Target="http://ru.wikipedia.org/wiki/&#1050;&#1072;&#1090;&#1072;&#1083;&#1080;&#1079;&#1072;&#1090;&#1086;&#1088;" TargetMode="External"/><Relationship Id="rId5" Type="http://schemas.openxmlformats.org/officeDocument/2006/relationships/hyperlink" Target="http://ru.wikipedia.org/wiki/%C0%EB%EA%E5%ED%FB#cite_note-14" TargetMode="External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2;&#1080;&#1085;&#1082;" TargetMode="External"/><Relationship Id="rId2" Type="http://schemas.openxmlformats.org/officeDocument/2006/relationships/hyperlink" Target="http://ru.wikipedia.org/wiki/%C0%EB%EA%E5%ED%FB#cite_note-neyland-15" TargetMode="External"/><Relationship Id="rId3" Type="http://schemas.openxmlformats.org/officeDocument/2006/relationships/hyperlink" Target="http://ru.wikipedia.org/wiki/%C0%EB%EA%E5%ED%FB#cite_note-16" TargetMode="External"/><Relationship Id="rId4" Type="http://schemas.openxmlformats.org/officeDocument/2006/relationships/hyperlink" Target="http://ru.wikipedia.org/wiki/&#1048;&#1079;&#1086;&#1084;&#1077;&#1088;&#1099;" TargetMode="External"/><Relationship Id="rId5" Type="http://schemas.openxmlformats.org/officeDocument/2006/relationships/hyperlink" Target="http://ru.wikipedia.org/wiki/&#1055;&#1088;&#1072;&#1074;&#1080;&#1083;&#1086;_&#1047;&#1072;&#1081;&#1094;&#1077;&#1074;&#1072;" TargetMode="External"/><Relationship Id="rId6" Type="http://schemas.openxmlformats.org/officeDocument/2006/relationships/slideLayout" Target="../slideLayouts/slideLayout2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9;&#1090;&#1080;&#1083;&#1077;&#1085;" TargetMode="External"/><Relationship Id="rId2" Type="http://schemas.openxmlformats.org/officeDocument/2006/relationships/hyperlink" Target="http://ru.wikipedia.org/wiki/&#1042;&#1080;&#1085;&#1080;&#1083;&#1093;&#1083;&#1086;&#1088;&#1080;&#1076;" TargetMode="External"/><Relationship Id="rId3" Type="http://schemas.openxmlformats.org/officeDocument/2006/relationships/hyperlink" Target="http://ru.wikipedia.org/wiki/&#1057;&#1090;&#1080;&#1088;&#1086;&#1083;" TargetMode="External"/><Relationship Id="rId4" Type="http://schemas.openxmlformats.org/officeDocument/2006/relationships/hyperlink" Target="http://ru.wikipedia.org/wiki/&#1069;&#1090;&#1080;&#1083;&#1077;&#1085;&#1075;&#1083;&#1080;&#1082;&#1086;&#1083;&#1100;" TargetMode="External"/><Relationship Id="rId5" Type="http://schemas.openxmlformats.org/officeDocument/2006/relationships/hyperlink" Target="http://ru.wikipedia.org/wiki/&#1069;&#1090;&#1080;&#1083;&#1077;&#1085;&#1086;&#1082;&#1089;&#1080;&#1076;" TargetMode="External"/><Relationship Id="rId6" Type="http://schemas.openxmlformats.org/officeDocument/2006/relationships/hyperlink" Target="http://ru.wikipedia.org/wiki/&#1069;&#1090;&#1072;&#1085;&#1086;&#1083;&#1072;&#1084;&#1080;&#1085;" TargetMode="External"/><Relationship Id="rId7" Type="http://schemas.openxmlformats.org/officeDocument/2006/relationships/hyperlink" Target="http://ru.wikipedia.org/wiki/&#1069;&#1090;&#1072;&#1085;&#1086;&#1083;" TargetMode="External"/><Relationship Id="rId8" Type="http://schemas.openxmlformats.org/officeDocument/2006/relationships/hyperlink" Target="http://ru.wikipedia.org/wiki/&#1044;&#1080;&#1086;&#1082;&#1089;&#1072;&#1085;" TargetMode="External"/><Relationship Id="rId9" Type="http://schemas.openxmlformats.org/officeDocument/2006/relationships/hyperlink" Target="http://ru.wikipedia.org/wiki/&#1044;&#1080;&#1093;&#1083;&#1086;&#1088;&#1101;&#1090;&#1072;&#1085;" TargetMode="External"/><Relationship Id="rId10" Type="http://schemas.openxmlformats.org/officeDocument/2006/relationships/hyperlink" Target="http://ru.wikipedia.org/wiki/&#1040;&#1094;&#1077;&#1090;&#1072;&#1083;&#1100;&#1076;&#1077;&#1075;&#1080;&#1076;" TargetMode="External"/><Relationship Id="rId11" Type="http://schemas.openxmlformats.org/officeDocument/2006/relationships/hyperlink" Target="http://ru.wikipedia.org/wiki/&#1059;&#1082;&#1089;&#1091;&#1089;&#1085;&#1072;&#1103;_&#1082;&#1080;&#1089;&#1083;&#1086;&#1090;&#1072;" TargetMode="External"/><Relationship Id="rId12" Type="http://schemas.openxmlformats.org/officeDocument/2006/relationships/hyperlink" Target="http://ru.wikipedia.org/wiki/%C0%EB%EA%E5%ED%FB#cite_note-neyland-15" TargetMode="External"/><Relationship Id="rId13" Type="http://schemas.openxmlformats.org/officeDocument/2006/relationships/hyperlink" Target="http://ru.wikipedia.org/wiki/&#1055;&#1086;&#1083;&#1080;&#1101;&#1090;&#1080;&#1083;&#1077;&#1085;" TargetMode="External"/><Relationship Id="rId14" Type="http://schemas.openxmlformats.org/officeDocument/2006/relationships/hyperlink" Target="http://ru.wikipedia.org/wiki/&#1055;&#1086;&#1083;&#1080;&#1074;&#1080;&#1085;&#1080;&#1083;&#1072;&#1094;&#1077;&#1090;&#1072;&#1090;" TargetMode="External"/><Relationship Id="rId15" Type="http://schemas.openxmlformats.org/officeDocument/2006/relationships/hyperlink" Target="http://ru.wikipedia.org/wiki/&#1055;&#1086;&#1083;&#1080;&#1074;&#1080;&#1085;&#1080;&#1083;&#1093;&#1083;&#1086;&#1088;&#1080;&#1076;" TargetMode="External"/><Relationship Id="rId16" Type="http://schemas.openxmlformats.org/officeDocument/2006/relationships/hyperlink" Target="http://ru.wikipedia.org/wiki/&#1050;&#1072;&#1091;&#1095;&#1091;&#1082;" TargetMode="External"/><Relationship Id="rId17" Type="http://schemas.openxmlformats.org/officeDocument/2006/relationships/hyperlink" Target="http://ru.wikipedia.org/wiki/&#1057;&#1084;&#1072;&#1079;&#1086;&#1095;&#1085;&#1099;&#1077;_&#1084;&#1072;&#1089;&#1083;&#1072;" TargetMode="External"/><Relationship Id="rId18" Type="http://schemas.openxmlformats.org/officeDocument/2006/relationships/hyperlink" Target="http://ru.wikipedia.org/wiki/%C0%EB%EA%E5%ED%FB#cite_note-50" TargetMode="External"/><Relationship Id="rId19" Type="http://schemas.openxmlformats.org/officeDocument/2006/relationships/hyperlink" Target="http://ru.wikipedia.org/wiki/%C0%EB%EA%E5%ED%FB#cite_note-51" TargetMode="External"/><Relationship Id="rId20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86;&#1087;&#1080;&#1083;&#1077;&#1085;" TargetMode="External"/><Relationship Id="rId2" Type="http://schemas.openxmlformats.org/officeDocument/2006/relationships/hyperlink" Target="http://ru.wikipedia.org/wiki/&#1055;&#1086;&#1083;&#1080;&#1087;&#1088;&#1086;&#1087;&#1080;&#1083;&#1077;&#1085;" TargetMode="External"/><Relationship Id="rId3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1692000" y="1267920"/>
            <a:ext cx="5832360" cy="381636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Ациклические углеводороды: алканы, алкины и алкены. Изомерия. Номенклатура. Химические свой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D387-DC64-4BAB-A797-517824785D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троение гомологов метан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9" name="Object 3"/>
          <p:cNvGraphicFramePr/>
          <p:nvPr/>
        </p:nvGraphicFramePr>
        <p:xfrm>
          <a:off x="250920" y="1425600"/>
          <a:ext cx="8424720" cy="526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25600"/>
                    <a:ext cx="8424720" cy="52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D511-636B-4363-9F83-7721F175A2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Строение алканов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2" name="Object 3"/>
          <p:cNvGraphicFramePr/>
          <p:nvPr/>
        </p:nvGraphicFramePr>
        <p:xfrm>
          <a:off x="0" y="1257480"/>
          <a:ext cx="8748720" cy="56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57480"/>
                    <a:ext cx="8748720" cy="56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DFC2-55CD-4E90-9273-74B4704D32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Строение алканов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5" name="Object 3"/>
          <p:cNvGraphicFramePr/>
          <p:nvPr/>
        </p:nvGraphicFramePr>
        <p:xfrm>
          <a:off x="0" y="1620720"/>
          <a:ext cx="8604360" cy="492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0720"/>
                    <a:ext cx="8604360" cy="49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1AB5-AE59-4FF8-AFCA-A1A4A61E8C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Строение пропан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8" name="Object 4"/>
          <p:cNvGraphicFramePr/>
          <p:nvPr/>
        </p:nvGraphicFramePr>
        <p:xfrm>
          <a:off x="0" y="1508040"/>
          <a:ext cx="8675640" cy="518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08040"/>
                    <a:ext cx="8675640" cy="51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8568-E506-4FFE-8340-AE98BEA53D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3390840" y="449568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3313080" y="580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Физические свойств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26560" y="4365360"/>
            <a:ext cx="76676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9090d"/>
                </a:solidFill>
                <a:latin typeface="Arial"/>
              </a:rPr>
              <a:t>С увеличением относительных молекулярных масс предельных углеводородов закономерно повышаются их температуры кипения и пл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1"/>
          <p:cNvSpPr/>
          <p:nvPr/>
        </p:nvSpPr>
        <p:spPr>
          <a:xfrm>
            <a:off x="250920" y="1484280"/>
            <a:ext cx="3132000" cy="2653560"/>
          </a:xfrm>
          <a:prstGeom prst="rect">
            <a:avLst/>
          </a:prstGeom>
          <a:solidFill>
            <a:srgbClr val="efe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газы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ипен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161,6…-0,5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C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влен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82,5…-138,3 °C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15" name="Text Box 12"/>
          <p:cNvSpPr/>
          <p:nvPr/>
        </p:nvSpPr>
        <p:spPr>
          <a:xfrm>
            <a:off x="6183360" y="1484280"/>
            <a:ext cx="2960640" cy="265356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далее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вёрдые веществ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ипен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8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5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C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влен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°C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16" name="Text Box 13"/>
          <p:cNvSpPr/>
          <p:nvPr/>
        </p:nvSpPr>
        <p:spPr>
          <a:xfrm>
            <a:off x="3492360" y="1484280"/>
            <a:ext cx="2664000" cy="2653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жидкости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ипен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5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C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влен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°C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A2C2-8D30-489F-BD4F-4C8BB6D0EC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3"/>
          <p:cNvSpPr/>
          <p:nvPr/>
        </p:nvSpPr>
        <p:spPr>
          <a:xfrm>
            <a:off x="755640" y="1413000"/>
            <a:ext cx="5472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9090d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9090d"/>
                </a:solidFill>
                <a:uFillTx/>
                <a:latin typeface="Times New Roman"/>
              </a:rPr>
              <a:t>В промышленности</a:t>
            </a:r>
            <a:r>
              <a:rPr b="0" lang="en-US" sz="2800" spc="-1" strike="noStrike" u="sng">
                <a:solidFill>
                  <a:srgbClr val="09090d"/>
                </a:solidFill>
                <a:uFillTx/>
                <a:latin typeface="Times New Roman"/>
              </a:rPr>
              <a:t>: 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9090d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9090d"/>
                </a:solidFill>
                <a:latin typeface="Times New Roman"/>
              </a:rPr>
              <a:t>а) крекинг нефтепродуктов</a:t>
            </a:r>
            <a:r>
              <a:rPr b="0" lang="en-US" sz="2800" spc="-1" strike="noStrike">
                <a:solidFill>
                  <a:srgbClr val="09090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090d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9090d"/>
                </a:solidFill>
                <a:latin typeface="Times New Roman"/>
              </a:rPr>
              <a:t>C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</a:rPr>
              <a:t>16</a:t>
            </a:r>
            <a:r>
              <a:rPr b="1" lang="en-US" sz="2800" spc="-1" strike="noStrike">
                <a:solidFill>
                  <a:srgbClr val="09090d"/>
                </a:solidFill>
                <a:latin typeface="Times New Roman"/>
              </a:rPr>
              <a:t>H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</a:rPr>
              <a:t>34</a:t>
            </a:r>
            <a:r>
              <a:rPr b="1" lang="en-US" sz="28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→ C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8</a:t>
            </a:r>
            <a:r>
              <a:rPr b="1" lang="en-US" sz="28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H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18</a:t>
            </a:r>
            <a:r>
              <a:rPr b="1" lang="en-US" sz="28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 + C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8</a:t>
            </a:r>
            <a:r>
              <a:rPr b="1" lang="en-US" sz="28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H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16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9090d"/>
                </a:solidFill>
                <a:latin typeface="Times New Roman"/>
              </a:rPr>
              <a:t>2) </a:t>
            </a:r>
            <a:r>
              <a:rPr b="0" lang="ru-RU" sz="2800" spc="-1" strike="noStrike" u="sng">
                <a:solidFill>
                  <a:srgbClr val="09090d"/>
                </a:solidFill>
                <a:uFillTx/>
                <a:latin typeface="Times New Roman"/>
              </a:rPr>
              <a:t>В лаборатории</a:t>
            </a:r>
            <a:r>
              <a:rPr b="0" lang="ru-RU" sz="2800" spc="-1" strike="noStrike">
                <a:solidFill>
                  <a:srgbClr val="09090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826920" y="501300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0805"/>
                </a:solidFill>
                <a:latin typeface="Times New Roman"/>
              </a:rPr>
              <a:t>в) </a:t>
            </a:r>
            <a:r>
              <a:rPr b="0" lang="ru-RU" sz="2800" spc="-1" strike="noStrike">
                <a:solidFill>
                  <a:srgbClr val="110805"/>
                </a:solidFill>
                <a:latin typeface="Arial"/>
              </a:rPr>
              <a:t>Декарбоксилирование натриевых солей карбоновых солей</a:t>
            </a:r>
            <a:r>
              <a:rPr b="0" lang="en-US" sz="2800" spc="-1" strike="noStrike">
                <a:solidFill>
                  <a:srgbClr val="110805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0805"/>
                </a:solidFill>
                <a:latin typeface="Times New Roman"/>
              </a:rPr>
              <a:t>СН</a:t>
            </a:r>
            <a:r>
              <a:rPr b="1" lang="ru-RU" sz="1800" spc="-1" strike="noStrike">
                <a:solidFill>
                  <a:srgbClr val="110805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110805"/>
                </a:solidFill>
                <a:latin typeface="Times New Roman"/>
              </a:rPr>
              <a:t>СОО</a:t>
            </a:r>
            <a:r>
              <a:rPr b="1" lang="en-US" sz="2800" spc="-1" strike="noStrike">
                <a:solidFill>
                  <a:srgbClr val="110805"/>
                </a:solidFill>
                <a:latin typeface="Times New Roman"/>
              </a:rPr>
              <a:t>Na + 2Na</a:t>
            </a:r>
            <a:r>
              <a:rPr b="1" lang="ru-RU" sz="2800" spc="-1" strike="noStrike">
                <a:solidFill>
                  <a:srgbClr val="110805"/>
                </a:solidFill>
                <a:latin typeface="Times New Roman"/>
              </a:rPr>
              <a:t>ОН </a:t>
            </a:r>
            <a:r>
              <a:rPr b="1" lang="ru-RU" sz="2800" spc="-1" strike="noStrike">
                <a:solidFill>
                  <a:srgbClr val="110805"/>
                </a:solidFill>
                <a:latin typeface="Times New Roman"/>
                <a:ea typeface="Times New Roman"/>
              </a:rPr>
              <a:t>→</a:t>
            </a:r>
            <a:r>
              <a:rPr b="1" lang="ru-RU" sz="2800" spc="-1" strike="noStrike">
                <a:solidFill>
                  <a:srgbClr val="110805"/>
                </a:solidFill>
                <a:latin typeface="Times New Roman"/>
              </a:rPr>
              <a:t> СН</a:t>
            </a:r>
            <a:r>
              <a:rPr b="1" lang="ru-RU" sz="1600" spc="-1" strike="noStrike">
                <a:solidFill>
                  <a:srgbClr val="110805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110805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110805"/>
                </a:solidFill>
                <a:latin typeface="Times New Roman"/>
                <a:ea typeface="Times New Roman"/>
              </a:rPr>
              <a:t>↑</a:t>
            </a:r>
            <a:r>
              <a:rPr b="1" lang="ru-RU" sz="2800" spc="-1" strike="noStrike">
                <a:solidFill>
                  <a:srgbClr val="110805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110805"/>
                </a:solidFill>
                <a:latin typeface="Times New Roman"/>
              </a:rPr>
              <a:t>N</a:t>
            </a:r>
            <a:r>
              <a:rPr b="1" lang="ru-RU" sz="2800" spc="-1" strike="noStrike">
                <a:solidFill>
                  <a:srgbClr val="110805"/>
                </a:solidFill>
                <a:latin typeface="Times New Roman"/>
              </a:rPr>
              <a:t>а</a:t>
            </a:r>
            <a:r>
              <a:rPr b="1" lang="ru-RU" sz="1600" spc="-1" strike="noStrike">
                <a:solidFill>
                  <a:srgbClr val="110805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110805"/>
                </a:solidFill>
                <a:latin typeface="Times New Roman"/>
              </a:rPr>
              <a:t>СО</a:t>
            </a:r>
            <a:r>
              <a:rPr b="1" lang="ru-RU" sz="1600" spc="-1" strike="noStrike">
                <a:solidFill>
                  <a:srgbClr val="110805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0805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2554920" y="4005360"/>
            <a:ext cx="343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9090d"/>
                </a:solidFill>
                <a:latin typeface="Times New Roman"/>
              </a:rPr>
              <a:t>б)</a:t>
            </a:r>
            <a:r>
              <a:rPr b="1" lang="ru-RU" sz="32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9090d"/>
                </a:solidFill>
                <a:latin typeface="Times New Roman"/>
              </a:rPr>
              <a:t>Реакция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Вюрца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1828080" y="4508640"/>
            <a:ext cx="574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0805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110805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110805"/>
                </a:solidFill>
                <a:latin typeface="Times New Roman"/>
              </a:rPr>
              <a:t>H</a:t>
            </a:r>
            <a:r>
              <a:rPr b="1" lang="en-US" sz="2000" spc="-1" strike="noStrike">
                <a:solidFill>
                  <a:srgbClr val="110805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110805"/>
                </a:solidFill>
                <a:latin typeface="Times New Roman"/>
              </a:rPr>
              <a:t>Cl + 2Na </a:t>
            </a:r>
            <a:r>
              <a:rPr b="1" lang="en-US" sz="3200" spc="-1" strike="noStrike">
                <a:solidFill>
                  <a:srgbClr val="110805"/>
                </a:solidFill>
                <a:latin typeface="Times New Roman"/>
                <a:ea typeface="Times New Roman"/>
              </a:rPr>
              <a:t>→ C</a:t>
            </a:r>
            <a:r>
              <a:rPr b="1" lang="en-US" sz="2000" spc="-1" strike="noStrike">
                <a:solidFill>
                  <a:srgbClr val="110805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110805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>
                <a:solidFill>
                  <a:srgbClr val="110805"/>
                </a:solidFill>
                <a:latin typeface="Times New Roman"/>
                <a:ea typeface="Times New Roman"/>
              </a:rPr>
              <a:t>10</a:t>
            </a:r>
            <a:r>
              <a:rPr b="1" lang="en-US" sz="3200" spc="-1" strike="noStrike">
                <a:solidFill>
                  <a:srgbClr val="110805"/>
                </a:solidFill>
                <a:latin typeface="Times New Roman"/>
                <a:ea typeface="Times New Roman"/>
              </a:rPr>
              <a:t> + 2NaCl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луче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8"/>
          <p:cNvSpPr/>
          <p:nvPr/>
        </p:nvSpPr>
        <p:spPr>
          <a:xfrm>
            <a:off x="1763640" y="306864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Гидролиз карбидо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23" name="Text Box 9"/>
          <p:cNvSpPr/>
          <p:nvPr/>
        </p:nvSpPr>
        <p:spPr>
          <a:xfrm>
            <a:off x="1191960" y="3645000"/>
            <a:ext cx="58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090d"/>
                </a:solidFill>
                <a:latin typeface="Times New Roman"/>
              </a:rPr>
              <a:t>Al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9090d"/>
                </a:solidFill>
                <a:latin typeface="Times New Roman"/>
              </a:rPr>
              <a:t>C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9090d"/>
                </a:solidFill>
                <a:latin typeface="Times New Roman"/>
              </a:rPr>
              <a:t> +12 H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9090d"/>
                </a:solidFill>
                <a:latin typeface="Times New Roman"/>
              </a:rPr>
              <a:t>O = 3 CH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9090d"/>
                </a:solidFill>
                <a:latin typeface="Times New Roman"/>
              </a:rPr>
              <a:t> + 4 Al(OH)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↓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C1CD-9CEC-4101-9A44-278CD599AB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олучение метан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5" name="Object 3"/>
          <p:cNvGraphicFramePr/>
          <p:nvPr/>
        </p:nvGraphicFramePr>
        <p:xfrm>
          <a:off x="0" y="1357200"/>
          <a:ext cx="835344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57200"/>
                    <a:ext cx="835344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5151-DDB5-4EEF-864F-2F24688393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Химические свойства алканов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4" descr="а23"/>
          <p:cNvPicPr/>
          <p:nvPr/>
        </p:nvPicPr>
        <p:blipFill>
          <a:blip r:embed="rId1"/>
          <a:stretch/>
        </p:blipFill>
        <p:spPr>
          <a:xfrm>
            <a:off x="0" y="1413000"/>
            <a:ext cx="8748720" cy="474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1FF7-76B5-4413-B53D-5DCD487117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4"/>
          <p:cNvSpPr/>
          <p:nvPr/>
        </p:nvSpPr>
        <p:spPr>
          <a:xfrm>
            <a:off x="1114560" y="2155680"/>
            <a:ext cx="43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09090d"/>
                </a:solidFill>
                <a:latin typeface="Times New Roman"/>
              </a:rPr>
              <a:t> + С</a:t>
            </a:r>
            <a:r>
              <a:rPr b="1" lang="en-US" sz="2400" spc="-1" strike="noStrike">
                <a:solidFill>
                  <a:srgbClr val="09090d"/>
                </a:solidFill>
                <a:latin typeface="Times New Roman"/>
              </a:rPr>
              <a:t>l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9090d"/>
                </a:solidFill>
                <a:latin typeface="Times New Roman"/>
              </a:rPr>
              <a:t>        CH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9090d"/>
                </a:solidFill>
                <a:latin typeface="Times New Roman"/>
              </a:rPr>
              <a:t>Cl + HCl + Q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31" name="Line 5"/>
          <p:cNvSpPr/>
          <p:nvPr/>
        </p:nvSpPr>
        <p:spPr>
          <a:xfrm>
            <a:off x="2556000" y="2421000"/>
            <a:ext cx="444240" cy="0"/>
          </a:xfrm>
          <a:prstGeom prst="line">
            <a:avLst/>
          </a:prstGeom>
          <a:ln w="936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32" name="Text Box 6"/>
          <p:cNvSpPr/>
          <p:nvPr/>
        </p:nvSpPr>
        <p:spPr>
          <a:xfrm>
            <a:off x="2627280" y="1773360"/>
            <a:ext cx="328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090d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33" name="Text Box 7"/>
          <p:cNvSpPr/>
          <p:nvPr/>
        </p:nvSpPr>
        <p:spPr>
          <a:xfrm>
            <a:off x="694440" y="1351080"/>
            <a:ext cx="70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9090d"/>
                </a:solidFill>
                <a:uFillTx/>
                <a:latin typeface="Times New Roman"/>
              </a:rPr>
              <a:t>Реакции протекают по радикальному механизму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34" name="AutoShape 65"/>
          <p:cNvSpPr/>
          <p:nvPr/>
        </p:nvSpPr>
        <p:spPr>
          <a:xfrm>
            <a:off x="7162920" y="3581280"/>
            <a:ext cx="609480" cy="1067040"/>
          </a:xfrm>
          <a:prstGeom prst="pi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35" name="AutoShape 67"/>
          <p:cNvSpPr/>
          <p:nvPr/>
        </p:nvSpPr>
        <p:spPr>
          <a:xfrm rot="14434200">
            <a:off x="6698880" y="4323600"/>
            <a:ext cx="533160" cy="1143000"/>
          </a:xfrm>
          <a:prstGeom prst="pi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36" name="Oval 68"/>
          <p:cNvSpPr/>
          <p:nvPr/>
        </p:nvSpPr>
        <p:spPr>
          <a:xfrm rot="12565800">
            <a:off x="6400800" y="4800240"/>
            <a:ext cx="533520" cy="6094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37" name="AutoShape 69"/>
          <p:cNvSpPr/>
          <p:nvPr/>
        </p:nvSpPr>
        <p:spPr>
          <a:xfrm rot="7802400">
            <a:off x="7581600" y="4457160"/>
            <a:ext cx="533520" cy="1066680"/>
          </a:xfrm>
          <a:prstGeom prst="pi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38" name="Oval 70"/>
          <p:cNvSpPr/>
          <p:nvPr/>
        </p:nvSpPr>
        <p:spPr>
          <a:xfrm rot="18468000">
            <a:off x="7810200" y="4914720"/>
            <a:ext cx="533520" cy="6094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39" name="AutoShape 71"/>
          <p:cNvSpPr/>
          <p:nvPr/>
        </p:nvSpPr>
        <p:spPr>
          <a:xfrm rot="5121600">
            <a:off x="7657560" y="4076640"/>
            <a:ext cx="533520" cy="1066680"/>
          </a:xfrm>
          <a:prstGeom prst="pi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40" name="AutoShape 73"/>
          <p:cNvSpPr/>
          <p:nvPr/>
        </p:nvSpPr>
        <p:spPr>
          <a:xfrm rot="16442400">
            <a:off x="7238880" y="4419360"/>
            <a:ext cx="76320" cy="380880"/>
          </a:xfrm>
          <a:prstGeom prst="pi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41" name="AutoShape 74"/>
          <p:cNvSpPr/>
          <p:nvPr/>
        </p:nvSpPr>
        <p:spPr>
          <a:xfrm rot="18134400">
            <a:off x="7270560" y="4400280"/>
            <a:ext cx="76320" cy="304920"/>
          </a:xfrm>
          <a:prstGeom prst="pi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42" name="AutoShape 75"/>
          <p:cNvSpPr/>
          <p:nvPr/>
        </p:nvSpPr>
        <p:spPr>
          <a:xfrm rot="2741400">
            <a:off x="7505640" y="4381560"/>
            <a:ext cx="76320" cy="304560"/>
          </a:xfrm>
          <a:prstGeom prst="pi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43" name="AutoShape 76"/>
          <p:cNvSpPr/>
          <p:nvPr/>
        </p:nvSpPr>
        <p:spPr>
          <a:xfrm rot="10800000">
            <a:off x="7391160" y="4571640"/>
            <a:ext cx="75960" cy="304920"/>
          </a:xfrm>
          <a:prstGeom prst="pi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44" name="Line 77"/>
          <p:cNvSpPr/>
          <p:nvPr/>
        </p:nvSpPr>
        <p:spPr>
          <a:xfrm>
            <a:off x="7467480" y="4648320"/>
            <a:ext cx="38124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45" name="Oval 78"/>
          <p:cNvSpPr/>
          <p:nvPr/>
        </p:nvSpPr>
        <p:spPr>
          <a:xfrm>
            <a:off x="7924680" y="5105520"/>
            <a:ext cx="53352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46" name="Oval 79"/>
          <p:cNvSpPr/>
          <p:nvPr/>
        </p:nvSpPr>
        <p:spPr>
          <a:xfrm>
            <a:off x="6248520" y="4952880"/>
            <a:ext cx="53316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47" name="Oval 95"/>
          <p:cNvSpPr/>
          <p:nvPr/>
        </p:nvSpPr>
        <p:spPr>
          <a:xfrm>
            <a:off x="8077320" y="4343400"/>
            <a:ext cx="53316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48" name="AutoShape 128"/>
          <p:cNvSpPr/>
          <p:nvPr/>
        </p:nvSpPr>
        <p:spPr>
          <a:xfrm rot="10639800">
            <a:off x="7160760" y="2587320"/>
            <a:ext cx="609840" cy="1066680"/>
          </a:xfrm>
          <a:prstGeom prst="pi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49" name="AutoShape 130"/>
          <p:cNvSpPr/>
          <p:nvPr/>
        </p:nvSpPr>
        <p:spPr>
          <a:xfrm rot="3466800">
            <a:off x="7619760" y="1752480"/>
            <a:ext cx="533520" cy="1143000"/>
          </a:xfrm>
          <a:prstGeom prst="pi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50" name="Oval 131"/>
          <p:cNvSpPr/>
          <p:nvPr/>
        </p:nvSpPr>
        <p:spPr>
          <a:xfrm rot="3243000">
            <a:off x="6247800" y="2438280"/>
            <a:ext cx="533520" cy="6094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51" name="AutoShape 132"/>
          <p:cNvSpPr/>
          <p:nvPr/>
        </p:nvSpPr>
        <p:spPr>
          <a:xfrm rot="18442200">
            <a:off x="6719760" y="1782720"/>
            <a:ext cx="533520" cy="1066680"/>
          </a:xfrm>
          <a:prstGeom prst="pi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52" name="Oval 133"/>
          <p:cNvSpPr/>
          <p:nvPr/>
        </p:nvSpPr>
        <p:spPr>
          <a:xfrm rot="7503600">
            <a:off x="6514920" y="1866600"/>
            <a:ext cx="533160" cy="6094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53" name="AutoShape 134"/>
          <p:cNvSpPr/>
          <p:nvPr/>
        </p:nvSpPr>
        <p:spPr>
          <a:xfrm rot="15762000">
            <a:off x="6590880" y="2171160"/>
            <a:ext cx="533520" cy="1067040"/>
          </a:xfrm>
          <a:prstGeom prst="pi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54" name="AutoShape 135"/>
          <p:cNvSpPr/>
          <p:nvPr/>
        </p:nvSpPr>
        <p:spPr>
          <a:xfrm rot="5475600">
            <a:off x="7539480" y="2442240"/>
            <a:ext cx="77760" cy="374400"/>
          </a:xfrm>
          <a:prstGeom prst="pi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55" name="AutoShape 136"/>
          <p:cNvSpPr/>
          <p:nvPr/>
        </p:nvSpPr>
        <p:spPr>
          <a:xfrm rot="7157400">
            <a:off x="7501320" y="2556720"/>
            <a:ext cx="79560" cy="299880"/>
          </a:xfrm>
          <a:prstGeom prst="pi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56" name="AutoShape 137"/>
          <p:cNvSpPr/>
          <p:nvPr/>
        </p:nvSpPr>
        <p:spPr>
          <a:xfrm rot="13364400">
            <a:off x="7238520" y="2590560"/>
            <a:ext cx="74880" cy="304560"/>
          </a:xfrm>
          <a:prstGeom prst="pi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57" name="AutoShape 138"/>
          <p:cNvSpPr/>
          <p:nvPr/>
        </p:nvSpPr>
        <p:spPr>
          <a:xfrm rot="21446400">
            <a:off x="7391160" y="2361960"/>
            <a:ext cx="75960" cy="304560"/>
          </a:xfrm>
          <a:prstGeom prst="pi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58" name="Oval 140"/>
          <p:cNvSpPr/>
          <p:nvPr/>
        </p:nvSpPr>
        <p:spPr>
          <a:xfrm rot="10632000">
            <a:off x="6400440" y="1828440"/>
            <a:ext cx="53352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59" name="Oval 141"/>
          <p:cNvSpPr/>
          <p:nvPr/>
        </p:nvSpPr>
        <p:spPr>
          <a:xfrm rot="10632000">
            <a:off x="6095520" y="2590560"/>
            <a:ext cx="53352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60" name="Oval 143"/>
          <p:cNvSpPr/>
          <p:nvPr/>
        </p:nvSpPr>
        <p:spPr>
          <a:xfrm rot="10632000">
            <a:off x="8000640" y="1904760"/>
            <a:ext cx="53352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61" name="Oval 144"/>
          <p:cNvSpPr/>
          <p:nvPr/>
        </p:nvSpPr>
        <p:spPr>
          <a:xfrm>
            <a:off x="7238880" y="3505320"/>
            <a:ext cx="4572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62" name="Text Box 145"/>
          <p:cNvSpPr/>
          <p:nvPr/>
        </p:nvSpPr>
        <p:spPr>
          <a:xfrm>
            <a:off x="6539040" y="57564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90d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9090d"/>
                </a:solidFill>
                <a:latin typeface="Times New Roman"/>
              </a:rPr>
              <a:t>Этан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63" name="Text Box 152"/>
          <p:cNvSpPr/>
          <p:nvPr/>
        </p:nvSpPr>
        <p:spPr>
          <a:xfrm>
            <a:off x="838800" y="271296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б) Нитрование 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64" name="Text Box 153"/>
          <p:cNvSpPr/>
          <p:nvPr/>
        </p:nvSpPr>
        <p:spPr>
          <a:xfrm>
            <a:off x="1110960" y="349560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С      Н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65" name="Text Box 154"/>
          <p:cNvSpPr/>
          <p:nvPr/>
        </p:nvSpPr>
        <p:spPr>
          <a:xfrm>
            <a:off x="611280" y="3481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66" name="Text Box 155"/>
          <p:cNvSpPr/>
          <p:nvPr/>
        </p:nvSpPr>
        <p:spPr>
          <a:xfrm>
            <a:off x="1068120" y="39765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67" name="Text Box 156"/>
          <p:cNvSpPr/>
          <p:nvPr/>
        </p:nvSpPr>
        <p:spPr>
          <a:xfrm>
            <a:off x="1097280" y="2986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68" name="Line 157"/>
          <p:cNvSpPr/>
          <p:nvPr/>
        </p:nvSpPr>
        <p:spPr>
          <a:xfrm>
            <a:off x="1263600" y="3328920"/>
            <a:ext cx="0" cy="228600"/>
          </a:xfrm>
          <a:prstGeom prst="line">
            <a:avLst/>
          </a:prstGeom>
          <a:ln w="1260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69" name="Line 158"/>
          <p:cNvSpPr/>
          <p:nvPr/>
        </p:nvSpPr>
        <p:spPr>
          <a:xfrm>
            <a:off x="1263600" y="3786120"/>
            <a:ext cx="0" cy="228600"/>
          </a:xfrm>
          <a:prstGeom prst="line">
            <a:avLst/>
          </a:prstGeom>
          <a:ln w="1260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70" name="Line 159"/>
          <p:cNvSpPr/>
          <p:nvPr/>
        </p:nvSpPr>
        <p:spPr>
          <a:xfrm>
            <a:off x="882720" y="3672000"/>
            <a:ext cx="304560" cy="0"/>
          </a:xfrm>
          <a:prstGeom prst="line">
            <a:avLst/>
          </a:prstGeom>
          <a:ln w="1260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71" name="Line 160"/>
          <p:cNvSpPr/>
          <p:nvPr/>
        </p:nvSpPr>
        <p:spPr>
          <a:xfrm>
            <a:off x="1415880" y="3672000"/>
            <a:ext cx="228600" cy="0"/>
          </a:xfrm>
          <a:prstGeom prst="line">
            <a:avLst/>
          </a:prstGeom>
          <a:ln w="1260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72" name="Text Box 161"/>
          <p:cNvSpPr/>
          <p:nvPr/>
        </p:nvSpPr>
        <p:spPr>
          <a:xfrm>
            <a:off x="1933560" y="349560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9090d"/>
                </a:solidFill>
                <a:latin typeface="Times New Roman"/>
              </a:rPr>
              <a:t>+ НО    </a:t>
            </a: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NO</a:t>
            </a: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2 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73" name="Line 162"/>
          <p:cNvSpPr/>
          <p:nvPr/>
        </p:nvSpPr>
        <p:spPr>
          <a:xfrm>
            <a:off x="2590920" y="3657600"/>
            <a:ext cx="152280" cy="0"/>
          </a:xfrm>
          <a:prstGeom prst="line">
            <a:avLst/>
          </a:prstGeom>
          <a:ln w="1260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74" name="Rectangle 163"/>
          <p:cNvSpPr/>
          <p:nvPr/>
        </p:nvSpPr>
        <p:spPr>
          <a:xfrm>
            <a:off x="1600200" y="3405240"/>
            <a:ext cx="1066680" cy="533520"/>
          </a:xfrm>
          <a:prstGeom prst="rect">
            <a:avLst/>
          </a:prstGeom>
          <a:noFill/>
          <a:ln w="12600">
            <a:solidFill>
              <a:srgbClr val="0909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75" name="Rectangle 186"/>
          <p:cNvSpPr/>
          <p:nvPr/>
        </p:nvSpPr>
        <p:spPr>
          <a:xfrm>
            <a:off x="3436920" y="34956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76" name="Rectangle 187"/>
          <p:cNvSpPr/>
          <p:nvPr/>
        </p:nvSpPr>
        <p:spPr>
          <a:xfrm>
            <a:off x="4078440" y="34815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NO</a:t>
            </a: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77" name="Line 188"/>
          <p:cNvSpPr/>
          <p:nvPr/>
        </p:nvSpPr>
        <p:spPr>
          <a:xfrm>
            <a:off x="3968640" y="3672000"/>
            <a:ext cx="152640" cy="0"/>
          </a:xfrm>
          <a:prstGeom prst="line">
            <a:avLst/>
          </a:prstGeom>
          <a:ln w="1260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78" name="Text Box 189"/>
          <p:cNvSpPr/>
          <p:nvPr/>
        </p:nvSpPr>
        <p:spPr>
          <a:xfrm>
            <a:off x="4485960" y="348156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+ H</a:t>
            </a: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O + Q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79" name="Text Box 190"/>
          <p:cNvSpPr/>
          <p:nvPr/>
        </p:nvSpPr>
        <p:spPr>
          <a:xfrm>
            <a:off x="823320" y="443376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) Сульфирование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80" name="Text Box 212"/>
          <p:cNvSpPr/>
          <p:nvPr/>
        </p:nvSpPr>
        <p:spPr>
          <a:xfrm>
            <a:off x="1339560" y="548640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С      Н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81" name="Text Box 213"/>
          <p:cNvSpPr/>
          <p:nvPr/>
        </p:nvSpPr>
        <p:spPr>
          <a:xfrm>
            <a:off x="839880" y="54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82" name="Text Box 214"/>
          <p:cNvSpPr/>
          <p:nvPr/>
        </p:nvSpPr>
        <p:spPr>
          <a:xfrm>
            <a:off x="1296720" y="59673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83" name="Text Box 215"/>
          <p:cNvSpPr/>
          <p:nvPr/>
        </p:nvSpPr>
        <p:spPr>
          <a:xfrm>
            <a:off x="1325880" y="49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84" name="Line 216"/>
          <p:cNvSpPr/>
          <p:nvPr/>
        </p:nvSpPr>
        <p:spPr>
          <a:xfrm>
            <a:off x="1492200" y="5319720"/>
            <a:ext cx="0" cy="228600"/>
          </a:xfrm>
          <a:prstGeom prst="line">
            <a:avLst/>
          </a:prstGeom>
          <a:ln w="1260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85" name="Line 217"/>
          <p:cNvSpPr/>
          <p:nvPr/>
        </p:nvSpPr>
        <p:spPr>
          <a:xfrm>
            <a:off x="1492200" y="5776920"/>
            <a:ext cx="0" cy="228600"/>
          </a:xfrm>
          <a:prstGeom prst="line">
            <a:avLst/>
          </a:prstGeom>
          <a:ln w="1260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86" name="Line 218"/>
          <p:cNvSpPr/>
          <p:nvPr/>
        </p:nvSpPr>
        <p:spPr>
          <a:xfrm>
            <a:off x="1111320" y="5662440"/>
            <a:ext cx="304560" cy="0"/>
          </a:xfrm>
          <a:prstGeom prst="line">
            <a:avLst/>
          </a:prstGeom>
          <a:ln w="1260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87" name="Line 219"/>
          <p:cNvSpPr/>
          <p:nvPr/>
        </p:nvSpPr>
        <p:spPr>
          <a:xfrm>
            <a:off x="1644480" y="5662440"/>
            <a:ext cx="228600" cy="0"/>
          </a:xfrm>
          <a:prstGeom prst="line">
            <a:avLst/>
          </a:prstGeom>
          <a:ln w="1260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88" name="Text Box 220"/>
          <p:cNvSpPr/>
          <p:nvPr/>
        </p:nvSpPr>
        <p:spPr>
          <a:xfrm>
            <a:off x="2162160" y="5486400"/>
            <a:ext cx="14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9090d"/>
                </a:solidFill>
                <a:latin typeface="Times New Roman"/>
              </a:rPr>
              <a:t>+ НО    </a:t>
            </a: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SO</a:t>
            </a: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H</a:t>
            </a: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89" name="Line 221"/>
          <p:cNvSpPr/>
          <p:nvPr/>
        </p:nvSpPr>
        <p:spPr>
          <a:xfrm>
            <a:off x="2819520" y="5648400"/>
            <a:ext cx="152280" cy="0"/>
          </a:xfrm>
          <a:prstGeom prst="line">
            <a:avLst/>
          </a:prstGeom>
          <a:ln w="1260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90" name="Rectangle 222"/>
          <p:cNvSpPr/>
          <p:nvPr/>
        </p:nvSpPr>
        <p:spPr>
          <a:xfrm>
            <a:off x="1828800" y="5396040"/>
            <a:ext cx="1066680" cy="533160"/>
          </a:xfrm>
          <a:prstGeom prst="rect">
            <a:avLst/>
          </a:prstGeom>
          <a:noFill/>
          <a:ln w="12600">
            <a:solidFill>
              <a:srgbClr val="0909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91" name="Line 223"/>
          <p:cNvSpPr/>
          <p:nvPr/>
        </p:nvSpPr>
        <p:spPr>
          <a:xfrm>
            <a:off x="3581280" y="5638680"/>
            <a:ext cx="304920" cy="0"/>
          </a:xfrm>
          <a:prstGeom prst="line">
            <a:avLst/>
          </a:prstGeom>
          <a:ln w="1260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92" name="Rectangle 224"/>
          <p:cNvSpPr/>
          <p:nvPr/>
        </p:nvSpPr>
        <p:spPr>
          <a:xfrm>
            <a:off x="3811320" y="55008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93" name="Rectangle 225"/>
          <p:cNvSpPr/>
          <p:nvPr/>
        </p:nvSpPr>
        <p:spPr>
          <a:xfrm>
            <a:off x="4453560" y="54864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SO</a:t>
            </a: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94" name="Line 226"/>
          <p:cNvSpPr/>
          <p:nvPr/>
        </p:nvSpPr>
        <p:spPr>
          <a:xfrm>
            <a:off x="4343400" y="5676840"/>
            <a:ext cx="152280" cy="0"/>
          </a:xfrm>
          <a:prstGeom prst="line">
            <a:avLst/>
          </a:prstGeom>
          <a:ln w="1260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95" name="Text Box 227"/>
          <p:cNvSpPr/>
          <p:nvPr/>
        </p:nvSpPr>
        <p:spPr>
          <a:xfrm>
            <a:off x="4860000" y="5486400"/>
            <a:ext cx="134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+ H</a:t>
            </a: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9090d"/>
                </a:solidFill>
                <a:latin typeface="Times New Roman"/>
              </a:rPr>
              <a:t>O + Q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96" name="Text Box 228"/>
          <p:cNvSpPr/>
          <p:nvPr/>
        </p:nvSpPr>
        <p:spPr>
          <a:xfrm>
            <a:off x="3211560" y="342900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97" name="Line 229"/>
          <p:cNvSpPr/>
          <p:nvPr/>
        </p:nvSpPr>
        <p:spPr>
          <a:xfrm>
            <a:off x="3200400" y="3657600"/>
            <a:ext cx="304920" cy="0"/>
          </a:xfrm>
          <a:prstGeom prst="line">
            <a:avLst/>
          </a:prstGeom>
          <a:ln w="1260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98" name="Text Box 230"/>
          <p:cNvSpPr/>
          <p:nvPr/>
        </p:nvSpPr>
        <p:spPr>
          <a:xfrm>
            <a:off x="3565440" y="530064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имические свойств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efec62"/>
                </a:solidFill>
                <a:latin typeface="Arial"/>
              </a:rPr>
              <a:t>1. </a:t>
            </a:r>
            <a:r>
              <a:rPr b="0" lang="ru-RU" sz="2800" spc="-1" strike="noStrike">
                <a:solidFill>
                  <a:srgbClr val="efec62"/>
                </a:solidFill>
                <a:latin typeface="Arial"/>
              </a:rPr>
              <a:t>Реакция замещения</a:t>
            </a:r>
            <a:r>
              <a:rPr b="0" lang="en-US" sz="2800" spc="-1" strike="noStrike">
                <a:solidFill>
                  <a:srgbClr val="efec6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233"/>
          <p:cNvSpPr/>
          <p:nvPr/>
        </p:nvSpPr>
        <p:spPr>
          <a:xfrm>
            <a:off x="902520" y="2708280"/>
            <a:ext cx="50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Реакц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трования (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Коновалова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01" name="Text Box 234"/>
          <p:cNvSpPr/>
          <p:nvPr/>
        </p:nvSpPr>
        <p:spPr>
          <a:xfrm>
            <a:off x="900000" y="4437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Реакция сульфирова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02" name="Text Box 235"/>
          <p:cNvSpPr/>
          <p:nvPr/>
        </p:nvSpPr>
        <p:spPr>
          <a:xfrm>
            <a:off x="1116000" y="17002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еакция галогенирова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F2A9-CD02-4B72-910B-F53AF406FB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WordArt 2"/>
          <p:cNvSpPr txBox="1"/>
          <p:nvPr/>
        </p:nvSpPr>
        <p:spPr>
          <a:xfrm>
            <a:off x="2916360" y="0"/>
            <a:ext cx="3671640" cy="5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. Реакции изомеризации:</a:t>
            </a:r>
            <a:endParaRPr b="0" lang="en-US" sz="16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441720" y="671400"/>
            <a:ext cx="30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3         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2        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2        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2        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05" name="Line 4"/>
          <p:cNvSpPr/>
          <p:nvPr/>
        </p:nvSpPr>
        <p:spPr>
          <a:xfrm>
            <a:off x="91440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06" name="Line 5"/>
          <p:cNvSpPr/>
          <p:nvPr/>
        </p:nvSpPr>
        <p:spPr>
          <a:xfrm>
            <a:off x="15238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07" name="Line 6"/>
          <p:cNvSpPr/>
          <p:nvPr/>
        </p:nvSpPr>
        <p:spPr>
          <a:xfrm>
            <a:off x="213372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08" name="Line 7"/>
          <p:cNvSpPr/>
          <p:nvPr/>
        </p:nvSpPr>
        <p:spPr>
          <a:xfrm>
            <a:off x="274320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09" name="Line 8"/>
          <p:cNvSpPr/>
          <p:nvPr/>
        </p:nvSpPr>
        <p:spPr>
          <a:xfrm>
            <a:off x="3429000" y="838080"/>
            <a:ext cx="914400" cy="0"/>
          </a:xfrm>
          <a:prstGeom prst="line">
            <a:avLst/>
          </a:prstGeom>
          <a:ln w="936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3280680" y="609480"/>
            <a:ext cx="102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9090d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t</a:t>
            </a:r>
            <a:r>
              <a:rPr b="0" lang="ru-RU" sz="1000" spc="-1" strike="noStrike">
                <a:solidFill>
                  <a:srgbClr val="09090d"/>
                </a:solidFill>
                <a:latin typeface="Times New Roman"/>
              </a:rPr>
              <a:t>, катализатор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11" name="Text Box 10"/>
          <p:cNvSpPr/>
          <p:nvPr/>
        </p:nvSpPr>
        <p:spPr>
          <a:xfrm>
            <a:off x="4406760" y="671400"/>
            <a:ext cx="22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3       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СН    СН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2        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12" name="Text Box 11"/>
          <p:cNvSpPr/>
          <p:nvPr/>
        </p:nvSpPr>
        <p:spPr>
          <a:xfrm>
            <a:off x="5015520" y="11113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13" name="Line 12"/>
          <p:cNvSpPr/>
          <p:nvPr/>
        </p:nvSpPr>
        <p:spPr>
          <a:xfrm>
            <a:off x="4876920" y="838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14" name="Line 14"/>
          <p:cNvSpPr/>
          <p:nvPr/>
        </p:nvSpPr>
        <p:spPr>
          <a:xfrm>
            <a:off x="5410080" y="838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15" name="Line 15"/>
          <p:cNvSpPr/>
          <p:nvPr/>
        </p:nvSpPr>
        <p:spPr>
          <a:xfrm>
            <a:off x="6019920" y="838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16" name="Line 16"/>
          <p:cNvSpPr/>
          <p:nvPr/>
        </p:nvSpPr>
        <p:spPr>
          <a:xfrm>
            <a:off x="5257800" y="990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17" name="WordArt 17"/>
          <p:cNvSpPr txBox="1"/>
          <p:nvPr/>
        </p:nvSpPr>
        <p:spPr>
          <a:xfrm>
            <a:off x="2987640" y="1413000"/>
            <a:ext cx="345600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.Реакции с водяным паром:</a:t>
            </a:r>
            <a:endParaRPr b="0" lang="en-US" sz="16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8" name="Text Box 18"/>
          <p:cNvSpPr/>
          <p:nvPr/>
        </p:nvSpPr>
        <p:spPr>
          <a:xfrm>
            <a:off x="678960" y="1890720"/>
            <a:ext cx="267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4 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+ Н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О              СО + 3Н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19" name="Line 19"/>
          <p:cNvSpPr/>
          <p:nvPr/>
        </p:nvSpPr>
        <p:spPr>
          <a:xfrm>
            <a:off x="1752480" y="2057400"/>
            <a:ext cx="533520" cy="0"/>
          </a:xfrm>
          <a:prstGeom prst="line">
            <a:avLst/>
          </a:prstGeom>
          <a:ln w="936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20" name="Text Box 20"/>
          <p:cNvSpPr/>
          <p:nvPr/>
        </p:nvSpPr>
        <p:spPr>
          <a:xfrm>
            <a:off x="1753920" y="1828800"/>
            <a:ext cx="50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800</a:t>
            </a:r>
            <a:r>
              <a:rPr b="0" lang="en-US" sz="10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°</a:t>
            </a: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С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21" name="AutoShape 22"/>
          <p:cNvSpPr/>
          <p:nvPr/>
        </p:nvSpPr>
        <p:spPr>
          <a:xfrm rot="5400000">
            <a:off x="2705040" y="171432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22" name="Text Box 23"/>
          <p:cNvSpPr/>
          <p:nvPr/>
        </p:nvSpPr>
        <p:spPr>
          <a:xfrm>
            <a:off x="2271960" y="214776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090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9090d"/>
                </a:solidFill>
                <a:latin typeface="Times New Roman"/>
              </a:rPr>
              <a:t>синтез-газ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23" name="WordArt 26"/>
          <p:cNvSpPr txBox="1"/>
          <p:nvPr/>
        </p:nvSpPr>
        <p:spPr>
          <a:xfrm>
            <a:off x="3348000" y="2492280"/>
            <a:ext cx="3168720" cy="3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. Реакции дегидрирования:</a:t>
            </a:r>
            <a:endParaRPr b="0" lang="en-US" sz="16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4" name="Text Box 27"/>
          <p:cNvSpPr/>
          <p:nvPr/>
        </p:nvSpPr>
        <p:spPr>
          <a:xfrm>
            <a:off x="1076760" y="2971800"/>
            <a:ext cx="333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2С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4 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        Н     С 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≡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 С    Н + 3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+ Q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25" name="Line 28"/>
          <p:cNvSpPr/>
          <p:nvPr/>
        </p:nvSpPr>
        <p:spPr>
          <a:xfrm>
            <a:off x="2301840" y="3138480"/>
            <a:ext cx="152280" cy="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26" name="Line 29"/>
          <p:cNvSpPr/>
          <p:nvPr/>
        </p:nvSpPr>
        <p:spPr>
          <a:xfrm>
            <a:off x="3063960" y="3138480"/>
            <a:ext cx="152280" cy="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27" name="Line 31"/>
          <p:cNvSpPr/>
          <p:nvPr/>
        </p:nvSpPr>
        <p:spPr>
          <a:xfrm>
            <a:off x="1692360" y="3138480"/>
            <a:ext cx="380880" cy="0"/>
          </a:xfrm>
          <a:prstGeom prst="line">
            <a:avLst/>
          </a:prstGeom>
          <a:ln w="936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28" name="Text Box 32"/>
          <p:cNvSpPr/>
          <p:nvPr/>
        </p:nvSpPr>
        <p:spPr>
          <a:xfrm>
            <a:off x="1600200" y="2895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29" name="Text Box 33"/>
          <p:cNvSpPr/>
          <p:nvPr/>
        </p:nvSpPr>
        <p:spPr>
          <a:xfrm>
            <a:off x="1601280" y="2895480"/>
            <a:ext cx="57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1500</a:t>
            </a:r>
            <a:r>
              <a:rPr b="0" lang="en-US" sz="10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°</a:t>
            </a:r>
            <a:r>
              <a:rPr b="0" lang="en-US" sz="1000" spc="-1" strike="noStrike">
                <a:solidFill>
                  <a:srgbClr val="09090d"/>
                </a:solidFill>
                <a:latin typeface="Times New Roman"/>
              </a:rPr>
              <a:t>С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30" name="Text Box 34"/>
          <p:cNvSpPr/>
          <p:nvPr/>
        </p:nvSpPr>
        <p:spPr>
          <a:xfrm>
            <a:off x="978480" y="3338640"/>
            <a:ext cx="355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    С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3                        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С=С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2 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+ 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+ Q 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31" name="Line 35"/>
          <p:cNvSpPr/>
          <p:nvPr/>
        </p:nvSpPr>
        <p:spPr>
          <a:xfrm>
            <a:off x="1447920" y="3505320"/>
            <a:ext cx="152280" cy="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32" name="Line 36"/>
          <p:cNvSpPr/>
          <p:nvPr/>
        </p:nvSpPr>
        <p:spPr>
          <a:xfrm>
            <a:off x="2133720" y="3505320"/>
            <a:ext cx="533160" cy="0"/>
          </a:xfrm>
          <a:prstGeom prst="line">
            <a:avLst/>
          </a:prstGeom>
          <a:ln w="936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33" name="WordArt 38"/>
          <p:cNvSpPr txBox="1"/>
          <p:nvPr/>
        </p:nvSpPr>
        <p:spPr>
          <a:xfrm>
            <a:off x="3348000" y="3716280"/>
            <a:ext cx="316872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.Реакции окисления:</a:t>
            </a:r>
            <a:endParaRPr b="0" lang="en-US" sz="16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4" name="Text Box 39"/>
          <p:cNvSpPr/>
          <p:nvPr/>
        </p:nvSpPr>
        <p:spPr>
          <a:xfrm>
            <a:off x="1472040" y="4076640"/>
            <a:ext cx="644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5050"/>
                </a:solidFill>
                <a:uFillTx/>
                <a:latin typeface="Times New Roman"/>
              </a:rPr>
              <a:t>Предельные углеводороды горят (пламя не коптящее</a:t>
            </a:r>
            <a:r>
              <a:rPr b="1" lang="en-US" sz="1400" spc="-1" strike="noStrike" u="sng">
                <a:solidFill>
                  <a:srgbClr val="ff5050"/>
                </a:solidFill>
                <a:uFillTx/>
                <a:latin typeface="Times New Roman"/>
              </a:rPr>
              <a:t>)</a:t>
            </a:r>
            <a:endParaRPr b="0" lang="en-US" sz="1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35" name="Text Box 40"/>
          <p:cNvSpPr/>
          <p:nvPr/>
        </p:nvSpPr>
        <p:spPr>
          <a:xfrm>
            <a:off x="1313640" y="458640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С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Н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8 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+ 5О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36" name="Text Box 41"/>
          <p:cNvSpPr/>
          <p:nvPr/>
        </p:nvSpPr>
        <p:spPr>
          <a:xfrm>
            <a:off x="2712960" y="4586400"/>
            <a:ext cx="170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3СО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2 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+ 4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 + Q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37" name="Text Box 42"/>
          <p:cNvSpPr/>
          <p:nvPr/>
        </p:nvSpPr>
        <p:spPr>
          <a:xfrm>
            <a:off x="2343960" y="4941720"/>
            <a:ext cx="467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5050"/>
                </a:solidFill>
                <a:uFillTx/>
                <a:latin typeface="Times New Roman"/>
              </a:rPr>
              <a:t>В присутствии катализаторов окисляются: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38" name="Text Box 43"/>
          <p:cNvSpPr/>
          <p:nvPr/>
        </p:nvSpPr>
        <p:spPr>
          <a:xfrm>
            <a:off x="1312920" y="5500800"/>
            <a:ext cx="13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4 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+ О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2           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39" name="Text Box 44"/>
          <p:cNvSpPr/>
          <p:nvPr/>
        </p:nvSpPr>
        <p:spPr>
          <a:xfrm>
            <a:off x="2236680" y="5438880"/>
            <a:ext cx="128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40" name="Text Box 45"/>
          <p:cNvSpPr/>
          <p:nvPr/>
        </p:nvSpPr>
        <p:spPr>
          <a:xfrm>
            <a:off x="2225880" y="5398920"/>
            <a:ext cx="152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9090d"/>
                </a:solidFill>
                <a:latin typeface="Times New Roman"/>
              </a:rPr>
              <a:t>500</a:t>
            </a:r>
            <a:r>
              <a:rPr b="0" i="1" lang="en-US" sz="12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°</a:t>
            </a:r>
            <a:r>
              <a:rPr b="0" i="1" lang="en-US" sz="1200" spc="-1" strike="noStrike">
                <a:solidFill>
                  <a:srgbClr val="09090d"/>
                </a:solidFill>
                <a:latin typeface="Times New Roman"/>
              </a:rPr>
              <a:t>С, катализатор</a:t>
            </a:r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41" name="Text Box 46"/>
          <p:cNvSpPr/>
          <p:nvPr/>
        </p:nvSpPr>
        <p:spPr>
          <a:xfrm>
            <a:off x="3372480" y="5500800"/>
            <a:ext cx="83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Н     С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42" name="Text Box 47"/>
          <p:cNvSpPr/>
          <p:nvPr/>
        </p:nvSpPr>
        <p:spPr>
          <a:xfrm>
            <a:off x="3980880" y="534816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9090d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9090d"/>
                </a:solidFill>
                <a:latin typeface="Times New Roman"/>
              </a:rPr>
              <a:t>О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43" name="Text Box 48"/>
          <p:cNvSpPr/>
          <p:nvPr/>
        </p:nvSpPr>
        <p:spPr>
          <a:xfrm>
            <a:off x="4056840" y="5729400"/>
            <a:ext cx="47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9090d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9090d"/>
                </a:solidFill>
                <a:latin typeface="Times New Roman"/>
              </a:rPr>
              <a:t>Н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44" name="Text Box 49"/>
          <p:cNvSpPr/>
          <p:nvPr/>
        </p:nvSpPr>
        <p:spPr>
          <a:xfrm>
            <a:off x="4364280" y="5500800"/>
            <a:ext cx="11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+ 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 + Q 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45" name="Line 51"/>
          <p:cNvSpPr/>
          <p:nvPr/>
        </p:nvSpPr>
        <p:spPr>
          <a:xfrm>
            <a:off x="4143240" y="5743440"/>
            <a:ext cx="139680" cy="61920"/>
          </a:xfrm>
          <a:prstGeom prst="line">
            <a:avLst/>
          </a:prstGeom>
          <a:ln w="648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46" name="Text Box 52"/>
          <p:cNvSpPr/>
          <p:nvPr/>
        </p:nvSpPr>
        <p:spPr>
          <a:xfrm>
            <a:off x="934200" y="6110280"/>
            <a:ext cx="216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2СН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(СН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)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34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СН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3 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+ 5О</a:t>
            </a:r>
            <a:r>
              <a:rPr b="1" lang="en-US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47" name="Text Box 53"/>
          <p:cNvSpPr/>
          <p:nvPr/>
        </p:nvSpPr>
        <p:spPr>
          <a:xfrm>
            <a:off x="3378600" y="6110280"/>
            <a:ext cx="321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4С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     (С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)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16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СООН +2Н</a:t>
            </a:r>
            <a:r>
              <a:rPr b="1" lang="ru-RU" sz="1000" spc="-1" strike="noStrike">
                <a:solidFill>
                  <a:srgbClr val="09090d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9090d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09090d"/>
                </a:solidFill>
                <a:latin typeface="Times New Roman"/>
              </a:rPr>
              <a:t> + Q 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48" name="Line 54"/>
          <p:cNvSpPr/>
          <p:nvPr/>
        </p:nvSpPr>
        <p:spPr>
          <a:xfrm>
            <a:off x="3979800" y="6276960"/>
            <a:ext cx="150840" cy="144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49" name="Line 55"/>
          <p:cNvSpPr/>
          <p:nvPr/>
        </p:nvSpPr>
        <p:spPr>
          <a:xfrm flipV="1">
            <a:off x="4132440" y="5574960"/>
            <a:ext cx="150480" cy="34920"/>
          </a:xfrm>
          <a:prstGeom prst="line">
            <a:avLst/>
          </a:prstGeom>
          <a:ln w="381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50" name="Line 56"/>
          <p:cNvSpPr/>
          <p:nvPr/>
        </p:nvSpPr>
        <p:spPr>
          <a:xfrm>
            <a:off x="2378160" y="4738680"/>
            <a:ext cx="304560" cy="0"/>
          </a:xfrm>
          <a:prstGeom prst="line">
            <a:avLst/>
          </a:prstGeom>
          <a:ln w="1260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51" name="Line 57"/>
          <p:cNvSpPr/>
          <p:nvPr/>
        </p:nvSpPr>
        <p:spPr>
          <a:xfrm>
            <a:off x="3063960" y="6262560"/>
            <a:ext cx="304560" cy="0"/>
          </a:xfrm>
          <a:prstGeom prst="line">
            <a:avLst/>
          </a:prstGeom>
          <a:ln w="1260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52" name="Line 58"/>
          <p:cNvSpPr/>
          <p:nvPr/>
        </p:nvSpPr>
        <p:spPr>
          <a:xfrm>
            <a:off x="2301840" y="5653080"/>
            <a:ext cx="1219320" cy="0"/>
          </a:xfrm>
          <a:prstGeom prst="line">
            <a:avLst/>
          </a:prstGeom>
          <a:ln w="1260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53" name="Line 59"/>
          <p:cNvSpPr/>
          <p:nvPr/>
        </p:nvSpPr>
        <p:spPr>
          <a:xfrm>
            <a:off x="37339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54" name="Line 60"/>
          <p:cNvSpPr/>
          <p:nvPr/>
        </p:nvSpPr>
        <p:spPr>
          <a:xfrm flipH="1">
            <a:off x="1676520" y="3200400"/>
            <a:ext cx="380880" cy="0"/>
          </a:xfrm>
          <a:prstGeom prst="line">
            <a:avLst/>
          </a:prstGeom>
          <a:ln w="936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55" name="Line 62"/>
          <p:cNvSpPr/>
          <p:nvPr/>
        </p:nvSpPr>
        <p:spPr>
          <a:xfrm flipH="1">
            <a:off x="2133720" y="3581280"/>
            <a:ext cx="457200" cy="0"/>
          </a:xfrm>
          <a:prstGeom prst="line">
            <a:avLst/>
          </a:prstGeom>
          <a:ln w="9360">
            <a:solidFill>
              <a:srgbClr val="090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AB06A-A774-44AA-8BA4-B6BC8BFB28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лан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ая формула класса углеводород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мологический ря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ы изомер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кан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ические свойст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ы получ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ческие свойст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н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129D-DFAA-47ED-9463-1154E0BBE0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Реакция горения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+ 2O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CO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2H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+ Q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7" name="Object 3"/>
          <p:cNvGraphicFramePr/>
          <p:nvPr/>
        </p:nvGraphicFramePr>
        <p:xfrm>
          <a:off x="0" y="1341360"/>
          <a:ext cx="896472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896472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18EB-4C71-4E40-B578-5C2F2D4CAA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5"/>
          <p:cNvSpPr/>
          <p:nvPr/>
        </p:nvSpPr>
        <p:spPr>
          <a:xfrm>
            <a:off x="395280" y="2276640"/>
            <a:ext cx="244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Широко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используются в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качестве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топлива, в том 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числе для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двигателей 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внутреннего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сгорания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763280" y="549360"/>
            <a:ext cx="61930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Применение алкано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61" name="Picture 10" descr=""/>
          <p:cNvPicPr/>
          <p:nvPr/>
        </p:nvPicPr>
        <p:blipFill>
          <a:blip r:embed="rId1"/>
          <a:stretch/>
        </p:blipFill>
        <p:spPr>
          <a:xfrm>
            <a:off x="2771640" y="2205000"/>
            <a:ext cx="6120000" cy="43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0EFA3-1D50-44E4-9E92-156408DD13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403280" y="475920"/>
            <a:ext cx="712944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рименение алканов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63" name="Picture 4" descr=""/>
          <p:cNvPicPr/>
          <p:nvPr/>
        </p:nvPicPr>
        <p:blipFill>
          <a:blip r:embed="rId1"/>
          <a:stretch/>
        </p:blipFill>
        <p:spPr>
          <a:xfrm>
            <a:off x="3672000" y="1876320"/>
            <a:ext cx="5472000" cy="498168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5"/>
          <p:cNvSpPr/>
          <p:nvPr/>
        </p:nvSpPr>
        <p:spPr>
          <a:xfrm>
            <a:off x="324000" y="2349360"/>
            <a:ext cx="3289320" cy="375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1-3 – производство сажи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1 – картриж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зи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ипографическая краска)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4-7 – получение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органических веществ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(4 – растворителей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 –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хладогентов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используемых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в холодильных установках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 –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метанол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 -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ацетилен)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D438F-9F6E-423A-B74A-8570CB9720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566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7D3D-ACD9-4C04-959B-E3FB438948D2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67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468360" y="1572120"/>
            <a:ext cx="83534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Алкины</a:t>
            </a: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 — алифатические непредельные углеводороды, в молекулах которых между углеродными атомами имеется одна тройная связь</a:t>
            </a:r>
            <a:r>
              <a:rPr b="0" i="1" lang="ru-RU" sz="32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599040" y="4765320"/>
            <a:ext cx="1622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Arial"/>
              </a:rPr>
              <a:t>2n-2 </a:t>
            </a:r>
            <a:endParaRPr b="0" lang="en-US" sz="3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4970A-071D-4192-A995-FD798607DA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572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2C91-4BEB-4C48-BA6C-C54F7A559A54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73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75" name="Rectangle 8"/>
          <p:cNvSpPr/>
          <p:nvPr/>
        </p:nvSpPr>
        <p:spPr>
          <a:xfrm>
            <a:off x="541800" y="123732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Строение алкинов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76" name="Rectangle 37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577" name="Object 36"/>
          <p:cNvGraphicFramePr/>
          <p:nvPr/>
        </p:nvGraphicFramePr>
        <p:xfrm>
          <a:off x="1763640" y="2492280"/>
          <a:ext cx="5184720" cy="88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8" name="Object 3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2492280"/>
                    <a:ext cx="51847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9" name="Text Box 38"/>
          <p:cNvSpPr/>
          <p:nvPr/>
        </p:nvSpPr>
        <p:spPr>
          <a:xfrm>
            <a:off x="3371040" y="3664080"/>
            <a:ext cx="159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ацетилен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(этин)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21049-B1A0-4834-98C1-ABFF02CA951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581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8D92-CBB2-436D-A5E2-05504BB1B284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82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541800" y="123732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Строение алкинов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85" name="Rectangle 6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586" name="Picture 9" descr="2-16"/>
          <p:cNvPicPr/>
          <p:nvPr/>
        </p:nvPicPr>
        <p:blipFill>
          <a:blip r:embed="rId2"/>
          <a:stretch/>
        </p:blipFill>
        <p:spPr>
          <a:xfrm>
            <a:off x="395280" y="2997360"/>
            <a:ext cx="8496360" cy="162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C5DDF-5A68-4859-A47A-3F6279D32BD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588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6796-CF77-4769-A161-7C023A2E898D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89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91" name="Rectangle 5"/>
          <p:cNvSpPr/>
          <p:nvPr/>
        </p:nvSpPr>
        <p:spPr>
          <a:xfrm>
            <a:off x="541800" y="123732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Строение алкинов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92" name="Rectangle 6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593" name="Picture 8" descr="2-17"/>
          <p:cNvPicPr/>
          <p:nvPr/>
        </p:nvPicPr>
        <p:blipFill>
          <a:blip r:embed="rId2"/>
          <a:stretch/>
        </p:blipFill>
        <p:spPr>
          <a:xfrm>
            <a:off x="468360" y="1916280"/>
            <a:ext cx="8351640" cy="46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B578E-93CD-477B-9544-83B2AEE7668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595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9E4A-6D20-4B92-B271-D849D8BB3CE9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96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541440" y="1237320"/>
            <a:ext cx="43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Номенклатура и изомерия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99" name="Rectangle 6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00" name="Rectangle 9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601" name="Object 8"/>
          <p:cNvGraphicFramePr/>
          <p:nvPr/>
        </p:nvGraphicFramePr>
        <p:xfrm>
          <a:off x="684360" y="2060640"/>
          <a:ext cx="3209760" cy="59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2060640"/>
                    <a:ext cx="320976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Rectangle 11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604" name="Object 10"/>
          <p:cNvGraphicFramePr/>
          <p:nvPr/>
        </p:nvGraphicFramePr>
        <p:xfrm>
          <a:off x="5292720" y="2117880"/>
          <a:ext cx="2879640" cy="59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5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92720" y="2117880"/>
                    <a:ext cx="28796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Rectangle 13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607" name="Object 12"/>
          <p:cNvGraphicFramePr/>
          <p:nvPr/>
        </p:nvGraphicFramePr>
        <p:xfrm>
          <a:off x="2124000" y="4076640"/>
          <a:ext cx="4753080" cy="13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08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24000" y="4076640"/>
                    <a:ext cx="475308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9" name="Rectangle 14"/>
          <p:cNvSpPr/>
          <p:nvPr/>
        </p:nvSpPr>
        <p:spPr>
          <a:xfrm>
            <a:off x="1311120" y="2780280"/>
            <a:ext cx="218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бутин-1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(этилацетилен)</a:t>
            </a: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10" name="Rectangle 15"/>
          <p:cNvSpPr/>
          <p:nvPr/>
        </p:nvSpPr>
        <p:spPr>
          <a:xfrm>
            <a:off x="5411880" y="2780280"/>
            <a:ext cx="26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бутин-2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(диметилацетилен)</a:t>
            </a: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11" name="Rectangle 16"/>
          <p:cNvSpPr/>
          <p:nvPr/>
        </p:nvSpPr>
        <p:spPr>
          <a:xfrm>
            <a:off x="2982600" y="5733000"/>
            <a:ext cx="29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2-метилпентен-1-ин-4</a:t>
            </a: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07703-C9B6-4800-84E1-71A0C61828E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613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5E19-F49E-4ED2-816E-FF54FA3D1D29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14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541440" y="1237320"/>
            <a:ext cx="43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Номенклатура и изомерия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19" name="Rectangle 9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20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21" name="Rectangle 17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622" name="Object 16"/>
          <p:cNvGraphicFramePr/>
          <p:nvPr/>
        </p:nvGraphicFramePr>
        <p:xfrm>
          <a:off x="1835280" y="2133720"/>
          <a:ext cx="4968720" cy="170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3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2133720"/>
                    <a:ext cx="496872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4" name="Rectangle 18"/>
          <p:cNvSpPr/>
          <p:nvPr/>
        </p:nvSpPr>
        <p:spPr>
          <a:xfrm>
            <a:off x="2468520" y="3715200"/>
            <a:ext cx="321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1-фенилпропин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(метилфенилацетилен)</a:t>
            </a: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25" name="Rectangle 20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626" name="Object 19"/>
          <p:cNvGraphicFramePr/>
          <p:nvPr/>
        </p:nvGraphicFramePr>
        <p:xfrm>
          <a:off x="539640" y="4941720"/>
          <a:ext cx="2880000" cy="525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7" name="Object 1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640" y="4941720"/>
                    <a:ext cx="288000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Rectangle 22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629" name="Object 21"/>
          <p:cNvGraphicFramePr/>
          <p:nvPr/>
        </p:nvGraphicFramePr>
        <p:xfrm>
          <a:off x="4861080" y="4951440"/>
          <a:ext cx="3456000" cy="565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30" name="Object 2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61080" y="4951440"/>
                    <a:ext cx="345600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Rectangle 23"/>
          <p:cNvSpPr/>
          <p:nvPr/>
        </p:nvSpPr>
        <p:spPr>
          <a:xfrm>
            <a:off x="1402920" y="5733000"/>
            <a:ext cx="114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этинил</a:t>
            </a: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32" name="Rectangle 24"/>
          <p:cNvSpPr/>
          <p:nvPr/>
        </p:nvSpPr>
        <p:spPr>
          <a:xfrm>
            <a:off x="5581080" y="56602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ропаргил</a:t>
            </a: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E2E32-2172-40B2-92AC-F0AC337BAF4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634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5967-75E3-47AE-BAD5-0046A3317F67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35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37" name="Rectangle 5"/>
          <p:cNvSpPr/>
          <p:nvPr/>
        </p:nvSpPr>
        <p:spPr>
          <a:xfrm>
            <a:off x="541440" y="1237320"/>
            <a:ext cx="43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Номенклатура и изомерия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38" name="Rectangle 6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39" name="Rectangle 7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40" name="Rectangle 8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41" name="Rectangle 9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42" name="Rectangle 10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43" name="Rectangle 13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44" name="Rectangle 15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45" name="Rectangle 20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646" name="Object 19"/>
          <p:cNvGraphicFramePr/>
          <p:nvPr/>
        </p:nvGraphicFramePr>
        <p:xfrm>
          <a:off x="395280" y="2133720"/>
          <a:ext cx="3718080" cy="133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7" name="Object 1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133720"/>
                    <a:ext cx="371808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8" name="Rectangle 22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649" name="Object 21"/>
          <p:cNvGraphicFramePr/>
          <p:nvPr/>
        </p:nvGraphicFramePr>
        <p:xfrm>
          <a:off x="4932360" y="2133720"/>
          <a:ext cx="4032360" cy="514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0" name="Object 2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32360" y="2133720"/>
                    <a:ext cx="403236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Rectangle 24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652" name="Object 23"/>
          <p:cNvGraphicFramePr/>
          <p:nvPr/>
        </p:nvGraphicFramePr>
        <p:xfrm>
          <a:off x="395280" y="5013360"/>
          <a:ext cx="4518000" cy="544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3" name="Object 2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5013360"/>
                    <a:ext cx="451800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4" name="Rectangle 25"/>
          <p:cNvSpPr/>
          <p:nvPr/>
        </p:nvSpPr>
        <p:spPr>
          <a:xfrm>
            <a:off x="1404360" y="3570840"/>
            <a:ext cx="22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3-метилбутин-1</a:t>
            </a: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55" name="Rectangle 26"/>
          <p:cNvSpPr/>
          <p:nvPr/>
        </p:nvSpPr>
        <p:spPr>
          <a:xfrm>
            <a:off x="6449400" y="349956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пентин-1</a:t>
            </a: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56" name="Rectangle 27"/>
          <p:cNvSpPr/>
          <p:nvPr/>
        </p:nvSpPr>
        <p:spPr>
          <a:xfrm>
            <a:off x="1696680" y="580464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пентин-2</a:t>
            </a: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CA3BA-B85F-43C6-88C0-E75D4DB5CF4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9898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каны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едельные углеводороды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арафины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асыщенные углеводороды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9090d"/>
                </a:solidFill>
                <a:latin typeface="Arial"/>
              </a:rPr>
              <a:t>Алканы - углеводороды в молекулах которых все атомы углерода связаны одинарными связями (</a:t>
            </a:r>
            <a:r>
              <a:rPr b="0" lang="el-GR" sz="3200" spc="-1" strike="noStrike">
                <a:solidFill>
                  <a:srgbClr val="09090d"/>
                </a:solidFill>
                <a:latin typeface="Arial"/>
              </a:rPr>
              <a:t>σ</a:t>
            </a:r>
            <a:r>
              <a:rPr b="0" lang="ru-RU" sz="3200" spc="-1" strike="noStrike">
                <a:solidFill>
                  <a:srgbClr val="09090d"/>
                </a:solidFill>
                <a:latin typeface="Arial"/>
              </a:rPr>
              <a:t>-)</a:t>
            </a:r>
            <a:r>
              <a:rPr b="0" lang="en-US" sz="3200" spc="-1" strike="noStrike">
                <a:solidFill>
                  <a:srgbClr val="09090d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9090d"/>
                </a:solidFill>
                <a:latin typeface="Arial"/>
              </a:rPr>
              <a:t>и имеют общую формулу</a:t>
            </a:r>
            <a:r>
              <a:rPr b="0" lang="en-US" sz="3200" spc="-1" strike="noStrike">
                <a:solidFill>
                  <a:srgbClr val="09090d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090d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3348000" y="3645000"/>
            <a:ext cx="2594160" cy="2166480"/>
          </a:xfrm>
          <a:prstGeom prst="rect">
            <a:avLst/>
          </a:prstGeom>
          <a:solidFill>
            <a:srgbClr val="efe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10805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110805"/>
                </a:solidFill>
                <a:latin typeface="Times New Roman"/>
              </a:rPr>
              <a:t>n</a:t>
            </a:r>
            <a:r>
              <a:rPr b="1" lang="en-US" sz="5400" spc="-1" strike="noStrike">
                <a:solidFill>
                  <a:srgbClr val="110805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110805"/>
                </a:solidFill>
                <a:latin typeface="Times New Roman"/>
              </a:rPr>
              <a:t>2n+2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CFD9-FF59-43E5-929B-BADA6E8736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658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4ACB-1D8C-46AB-ABBA-0804A2E48BB5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59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60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541080" y="123732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Способы получения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62" name="Rectangle 6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63" name="Rectangle 7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64" name="Rectangle 8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65" name="Rectangle 9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66" name="Rectangle 10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67" name="Rectangle 11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68" name="Rectangle 12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69" name="Rectangle 13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70" name="Rectangle 15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71" name="Rectangle 17"/>
          <p:cNvSpPr/>
          <p:nvPr/>
        </p:nvSpPr>
        <p:spPr>
          <a:xfrm>
            <a:off x="971640" y="177228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Крекинг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72" name="Rectangle 23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673" name="Object 22"/>
          <p:cNvGraphicFramePr/>
          <p:nvPr/>
        </p:nvGraphicFramePr>
        <p:xfrm>
          <a:off x="1187280" y="2349360"/>
          <a:ext cx="7374240" cy="96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4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2349360"/>
                    <a:ext cx="737424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Rectangle 25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676" name="Object 24"/>
          <p:cNvGraphicFramePr/>
          <p:nvPr/>
        </p:nvGraphicFramePr>
        <p:xfrm>
          <a:off x="1187280" y="4049640"/>
          <a:ext cx="7417080" cy="96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7" name="Object 2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87280" y="4049640"/>
                    <a:ext cx="741708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B0F6D-D0EF-4803-B5CF-844A0F24418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679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5BF2-F096-4694-8A69-E258451743F8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80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541080" y="123732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Способы получения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83" name="Rectangle 6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84" name="Rectangle 7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85" name="Rectangle 8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86" name="Rectangle 9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87" name="Rectangle 10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88" name="Rectangle 11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89" name="Rectangle 12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90" name="Rectangle 13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91" name="Rectangle 14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92" name="Rectangle 15"/>
          <p:cNvSpPr/>
          <p:nvPr/>
        </p:nvSpPr>
        <p:spPr>
          <a:xfrm>
            <a:off x="971640" y="17722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Из карбида кальция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93" name="Rectangle 16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94" name="Rectangle 18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695" name="Object 22"/>
          <p:cNvGraphicFramePr/>
          <p:nvPr/>
        </p:nvGraphicFramePr>
        <p:xfrm>
          <a:off x="863640" y="2708280"/>
          <a:ext cx="5799240" cy="66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6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3640" y="2708280"/>
                    <a:ext cx="57992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Object 21"/>
          <p:cNvGraphicFramePr/>
          <p:nvPr/>
        </p:nvGraphicFramePr>
        <p:xfrm>
          <a:off x="798480" y="3860640"/>
          <a:ext cx="7608960" cy="544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8" name="Object 2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98480" y="3860640"/>
                    <a:ext cx="760896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9" name="Object 20"/>
          <p:cNvGraphicFramePr/>
          <p:nvPr/>
        </p:nvGraphicFramePr>
        <p:xfrm>
          <a:off x="82440" y="5013360"/>
          <a:ext cx="8882280" cy="558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00" name="Object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440" y="5013360"/>
                    <a:ext cx="88822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1" name="Rectangle 23"/>
          <p:cNvSpPr/>
          <p:nvPr/>
        </p:nvSpPr>
        <p:spPr>
          <a:xfrm>
            <a:off x="0" y="26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7E797-6E4B-4F39-9FD5-D8FBCEF00D2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703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AC19-C8E1-42BC-A4C0-1BC3872A627A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04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05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541080" y="123732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Способы получения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07" name="Rectangle 6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08" name="Rectangle 7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09" name="Rectangle 8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10" name="Rectangle 9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11" name="Rectangle 10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12" name="Rectangle 11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13" name="Rectangle 12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14" name="Rectangle 13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15" name="Rectangle 14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16" name="Rectangle 15"/>
          <p:cNvSpPr/>
          <p:nvPr/>
        </p:nvSpPr>
        <p:spPr>
          <a:xfrm>
            <a:off x="971640" y="177228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Дегидрогалогенирование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17" name="Rectangle 16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18" name="Rectangle 17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19" name="Rectangle 21"/>
          <p:cNvSpPr/>
          <p:nvPr/>
        </p:nvSpPr>
        <p:spPr>
          <a:xfrm>
            <a:off x="0" y="26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20" name="Rectangle 23"/>
          <p:cNvSpPr/>
          <p:nvPr/>
        </p:nvSpPr>
        <p:spPr>
          <a:xfrm>
            <a:off x="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721" name="Object 22"/>
          <p:cNvGraphicFramePr/>
          <p:nvPr/>
        </p:nvGraphicFramePr>
        <p:xfrm>
          <a:off x="142920" y="2708280"/>
          <a:ext cx="8893080" cy="197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2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2708280"/>
                    <a:ext cx="889308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525F8-C902-436B-AA57-EB10664606F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724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0C1C-E404-49FB-ADB5-DBFFD113C87F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25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26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27" name="Rectangle 5"/>
          <p:cNvSpPr/>
          <p:nvPr/>
        </p:nvSpPr>
        <p:spPr>
          <a:xfrm>
            <a:off x="542160" y="12373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Химические свойства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28" name="Rectangle 6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29" name="Rectangle 7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30" name="Rectangle 8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31" name="Rectangle 9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32" name="Rectangle 10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33" name="Rectangle 11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34" name="Rectangle 12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35" name="Rectangle 14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36" name="Rectangle 15"/>
          <p:cNvSpPr/>
          <p:nvPr/>
        </p:nvSpPr>
        <p:spPr>
          <a:xfrm>
            <a:off x="1116000" y="20595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Гидрирование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37" name="Rectangle 16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38" name="Rectangle 17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39" name="Rectangle 18"/>
          <p:cNvSpPr/>
          <p:nvPr/>
        </p:nvSpPr>
        <p:spPr>
          <a:xfrm>
            <a:off x="0" y="26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40" name="Rectangle 19"/>
          <p:cNvSpPr/>
          <p:nvPr/>
        </p:nvSpPr>
        <p:spPr>
          <a:xfrm>
            <a:off x="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41" name="Text Box 21"/>
          <p:cNvSpPr/>
          <p:nvPr/>
        </p:nvSpPr>
        <p:spPr>
          <a:xfrm>
            <a:off x="899640" y="1663560"/>
            <a:ext cx="57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Реакции электрофильного присоединения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42" name="Rectangle 23"/>
          <p:cNvSpPr/>
          <p:nvPr/>
        </p:nvSpPr>
        <p:spPr>
          <a:xfrm>
            <a:off x="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743" name="Object 22"/>
          <p:cNvGraphicFramePr/>
          <p:nvPr/>
        </p:nvGraphicFramePr>
        <p:xfrm>
          <a:off x="1116000" y="2708280"/>
          <a:ext cx="7777080" cy="106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4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2708280"/>
                    <a:ext cx="777708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5" name="Rectangle 25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746" name="Object 24"/>
          <p:cNvGraphicFramePr/>
          <p:nvPr/>
        </p:nvGraphicFramePr>
        <p:xfrm>
          <a:off x="826920" y="4437000"/>
          <a:ext cx="8425080" cy="2203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7" name="Object 2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6920" y="4437000"/>
                    <a:ext cx="8425080" cy="22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8" name="Rectangle 26"/>
          <p:cNvSpPr/>
          <p:nvPr/>
        </p:nvSpPr>
        <p:spPr>
          <a:xfrm>
            <a:off x="1116000" y="422028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Галогенирование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593F5-2539-4A78-9C9B-59A67E3B629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750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E5E7-1329-440F-9230-A957AEE555C0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51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52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53" name="Rectangle 5"/>
          <p:cNvSpPr/>
          <p:nvPr/>
        </p:nvSpPr>
        <p:spPr>
          <a:xfrm>
            <a:off x="542160" y="12373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Химические свойства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54" name="Rectangle 14"/>
          <p:cNvSpPr/>
          <p:nvPr/>
        </p:nvSpPr>
        <p:spPr>
          <a:xfrm>
            <a:off x="1116000" y="20595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Гидрогалогенирование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55" name="Text Box 19"/>
          <p:cNvSpPr/>
          <p:nvPr/>
        </p:nvSpPr>
        <p:spPr>
          <a:xfrm>
            <a:off x="899640" y="1663560"/>
            <a:ext cx="57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Реакции электрофильного присоединения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56" name="Rectangle 26"/>
          <p:cNvSpPr/>
          <p:nvPr/>
        </p:nvSpPr>
        <p:spPr>
          <a:xfrm>
            <a:off x="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757" name="Object 25"/>
          <p:cNvGraphicFramePr/>
          <p:nvPr/>
        </p:nvGraphicFramePr>
        <p:xfrm>
          <a:off x="971640" y="2708280"/>
          <a:ext cx="7848360" cy="28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8" name="Object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708280"/>
                    <a:ext cx="7848360" cy="28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787EE-1B25-414A-BF94-5F02FB92A97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760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1CAB-1F30-424A-9A96-92913EF1858E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61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62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63" name="Rectangle 5"/>
          <p:cNvSpPr/>
          <p:nvPr/>
        </p:nvSpPr>
        <p:spPr>
          <a:xfrm>
            <a:off x="542160" y="12373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Химические свойства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64" name="Rectangle 6"/>
          <p:cNvSpPr/>
          <p:nvPr/>
        </p:nvSpPr>
        <p:spPr>
          <a:xfrm>
            <a:off x="1116000" y="2059560"/>
            <a:ext cx="55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Присоединение синильной кислоты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65" name="Text Box 7"/>
          <p:cNvSpPr/>
          <p:nvPr/>
        </p:nvSpPr>
        <p:spPr>
          <a:xfrm>
            <a:off x="899640" y="1663560"/>
            <a:ext cx="57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Реакции электрофильного присоединения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66" name="Rectangle 8"/>
          <p:cNvSpPr/>
          <p:nvPr/>
        </p:nvSpPr>
        <p:spPr>
          <a:xfrm>
            <a:off x="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768" name="Object 10"/>
          <p:cNvGraphicFramePr/>
          <p:nvPr/>
        </p:nvGraphicFramePr>
        <p:xfrm>
          <a:off x="826920" y="2852640"/>
          <a:ext cx="8064720" cy="96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9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2852640"/>
                    <a:ext cx="806472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22A7A-2E06-4944-BE46-20AE99DFD94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771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5F0C-A1FB-4F13-9AC9-265EC9011E4D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72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73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74" name="Rectangle 5"/>
          <p:cNvSpPr/>
          <p:nvPr/>
        </p:nvSpPr>
        <p:spPr>
          <a:xfrm>
            <a:off x="542160" y="12373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Химические свойства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75" name="Rectangle 6"/>
          <p:cNvSpPr/>
          <p:nvPr/>
        </p:nvSpPr>
        <p:spPr>
          <a:xfrm>
            <a:off x="1116000" y="216756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исоединение воды (реакция М.Г.Кучерова, 1881)</a:t>
            </a:r>
            <a:r>
              <a:rPr b="0" i="1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76" name="Text Box 7"/>
          <p:cNvSpPr/>
          <p:nvPr/>
        </p:nvSpPr>
        <p:spPr>
          <a:xfrm>
            <a:off x="896760" y="1736640"/>
            <a:ext cx="66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Взаимодействие с нуклеофильными реагентами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77" name="Rectangle 8"/>
          <p:cNvSpPr/>
          <p:nvPr/>
        </p:nvSpPr>
        <p:spPr>
          <a:xfrm>
            <a:off x="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78" name="Rectangle 9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79" name="Rectangle 12"/>
          <p:cNvSpPr/>
          <p:nvPr/>
        </p:nvSpPr>
        <p:spPr>
          <a:xfrm>
            <a:off x="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780" name="Object 11"/>
          <p:cNvGraphicFramePr/>
          <p:nvPr/>
        </p:nvGraphicFramePr>
        <p:xfrm>
          <a:off x="468360" y="3022560"/>
          <a:ext cx="8424720" cy="213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1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3022560"/>
                    <a:ext cx="842472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43913-459E-4A1A-9EC0-9256849B857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783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7C2C-2E25-4B60-BA62-B496AF91B2FF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84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85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86" name="Rectangle 5"/>
          <p:cNvSpPr/>
          <p:nvPr/>
        </p:nvSpPr>
        <p:spPr>
          <a:xfrm>
            <a:off x="542160" y="12373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Химические свойства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87" name="Rectangle 6"/>
          <p:cNvSpPr/>
          <p:nvPr/>
        </p:nvSpPr>
        <p:spPr>
          <a:xfrm>
            <a:off x="1116000" y="216756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исоединение воды (реакция М.Г.Кучерова, 1881)</a:t>
            </a:r>
            <a:r>
              <a:rPr b="0" i="1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88" name="Text Box 7"/>
          <p:cNvSpPr/>
          <p:nvPr/>
        </p:nvSpPr>
        <p:spPr>
          <a:xfrm>
            <a:off x="896760" y="1736640"/>
            <a:ext cx="66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Взаимодействие с нуклеофильными реагентами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89" name="Rectangle 8"/>
          <p:cNvSpPr/>
          <p:nvPr/>
        </p:nvSpPr>
        <p:spPr>
          <a:xfrm>
            <a:off x="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90" name="Rectangle 9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91" name="Rectangle 10"/>
          <p:cNvSpPr/>
          <p:nvPr/>
        </p:nvSpPr>
        <p:spPr>
          <a:xfrm>
            <a:off x="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92" name="Rectangle 13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793" name="Object 12"/>
          <p:cNvGraphicFramePr/>
          <p:nvPr/>
        </p:nvGraphicFramePr>
        <p:xfrm>
          <a:off x="324000" y="3068640"/>
          <a:ext cx="8496000" cy="196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4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3068640"/>
                    <a:ext cx="849600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D50DA-4277-477C-B395-C694BB03D0B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796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2538-A7D5-4527-B384-B8CC6F59BFC9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97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99" name="Rectangle 5"/>
          <p:cNvSpPr/>
          <p:nvPr/>
        </p:nvSpPr>
        <p:spPr>
          <a:xfrm>
            <a:off x="542160" y="12373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Химические свойства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00" name="Rectangle 6"/>
          <p:cNvSpPr/>
          <p:nvPr/>
        </p:nvSpPr>
        <p:spPr>
          <a:xfrm>
            <a:off x="1116000" y="216756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исоединение воды (реакция М.Г.Кучерова, 1881)</a:t>
            </a:r>
            <a:r>
              <a:rPr b="0" i="1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01" name="Text Box 7"/>
          <p:cNvSpPr/>
          <p:nvPr/>
        </p:nvSpPr>
        <p:spPr>
          <a:xfrm>
            <a:off x="896760" y="1736640"/>
            <a:ext cx="66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Взаимодействие с нуклеофильными реагентами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02" name="Rectangle 8"/>
          <p:cNvSpPr/>
          <p:nvPr/>
        </p:nvSpPr>
        <p:spPr>
          <a:xfrm>
            <a:off x="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03" name="Rectangle 9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04" name="Rectangle 10"/>
          <p:cNvSpPr/>
          <p:nvPr/>
        </p:nvSpPr>
        <p:spPr>
          <a:xfrm>
            <a:off x="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05" name="Rectangle 11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06" name="Rectangle 13"/>
          <p:cNvSpPr/>
          <p:nvPr/>
        </p:nvSpPr>
        <p:spPr>
          <a:xfrm>
            <a:off x="3780000" y="4869000"/>
            <a:ext cx="49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учеров, Михаил Григорьевич 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(1850 - 1911)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807" name="Picture 14" descr=""/>
          <p:cNvPicPr/>
          <p:nvPr/>
        </p:nvPicPr>
        <p:blipFill>
          <a:blip r:embed="rId2"/>
          <a:stretch/>
        </p:blipFill>
        <p:spPr>
          <a:xfrm>
            <a:off x="971640" y="3068640"/>
            <a:ext cx="2322360" cy="266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80DDE-C876-4E81-851B-D5935E161F4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809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1BC9-615B-455D-9DFE-4B37CD3CFDD4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10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11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12" name="Rectangle 5"/>
          <p:cNvSpPr/>
          <p:nvPr/>
        </p:nvSpPr>
        <p:spPr>
          <a:xfrm>
            <a:off x="542160" y="12373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Химические свойства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13" name="Rectangle 6"/>
          <p:cNvSpPr/>
          <p:nvPr/>
        </p:nvSpPr>
        <p:spPr>
          <a:xfrm>
            <a:off x="1116000" y="216756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Присоединение спиртов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14" name="Text Box 7"/>
          <p:cNvSpPr/>
          <p:nvPr/>
        </p:nvSpPr>
        <p:spPr>
          <a:xfrm>
            <a:off x="896760" y="1736640"/>
            <a:ext cx="66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Взаимодействие с нуклеофильными реагентами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15" name="Rectangle 9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16" name="Rectangle 11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17" name="Rectangle 15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818" name="Object 14"/>
          <p:cNvGraphicFramePr/>
          <p:nvPr/>
        </p:nvGraphicFramePr>
        <p:xfrm>
          <a:off x="395280" y="2781360"/>
          <a:ext cx="8532720" cy="83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9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781360"/>
                    <a:ext cx="853272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0" name="Rectangle 17"/>
          <p:cNvSpPr/>
          <p:nvPr/>
        </p:nvSpPr>
        <p:spPr>
          <a:xfrm>
            <a:off x="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821" name="Object 16"/>
          <p:cNvGraphicFramePr/>
          <p:nvPr/>
        </p:nvGraphicFramePr>
        <p:xfrm>
          <a:off x="179280" y="4941720"/>
          <a:ext cx="8785440" cy="1501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2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4941720"/>
                    <a:ext cx="8785440" cy="15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3" name="Rectangle 18"/>
          <p:cNvSpPr/>
          <p:nvPr/>
        </p:nvSpPr>
        <p:spPr>
          <a:xfrm>
            <a:off x="1187280" y="4148640"/>
            <a:ext cx="70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Присоединение карбоновых кислот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42414-7863-403D-83F3-FED6770F110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Гомологический ряд метан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2349360"/>
            <a:ext cx="3884760" cy="36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9090d"/>
                </a:solidFill>
                <a:latin typeface="Arial"/>
              </a:rPr>
              <a:t>СН</a:t>
            </a:r>
            <a:r>
              <a:rPr b="0" lang="ru-RU" sz="2800" spc="-1" strike="noStrike">
                <a:solidFill>
                  <a:srgbClr val="09090d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9090d"/>
                </a:solidFill>
                <a:latin typeface="Arial"/>
              </a:rPr>
              <a:t>мет</a:t>
            </a:r>
            <a:r>
              <a:rPr b="0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ан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9090d"/>
                </a:solidFill>
                <a:latin typeface="Arial"/>
              </a:rPr>
              <a:t>С</a:t>
            </a:r>
            <a:r>
              <a:rPr b="0" lang="ru-RU" sz="2800" spc="-1" strike="noStrike">
                <a:solidFill>
                  <a:srgbClr val="09090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09090d"/>
                </a:solidFill>
                <a:latin typeface="Arial"/>
              </a:rPr>
              <a:t>        эт</a:t>
            </a:r>
            <a:r>
              <a:rPr b="0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8</a:t>
            </a:r>
            <a:r>
              <a:rPr b="0" lang="ru-RU" sz="2800" spc="-1" strike="noStrike">
                <a:solidFill>
                  <a:srgbClr val="09090d"/>
                </a:solidFill>
                <a:latin typeface="Arial"/>
              </a:rPr>
              <a:t>        проп</a:t>
            </a:r>
            <a:r>
              <a:rPr b="0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09090d"/>
                </a:solidFill>
                <a:latin typeface="Arial"/>
              </a:rPr>
              <a:t>      бут</a:t>
            </a:r>
            <a:r>
              <a:rPr b="0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5</a:t>
            </a: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12</a:t>
            </a:r>
            <a:r>
              <a:rPr b="0" lang="ru-RU" sz="2800" spc="-1" strike="noStrike">
                <a:solidFill>
                  <a:srgbClr val="09090d"/>
                </a:solidFill>
                <a:latin typeface="Arial"/>
              </a:rPr>
              <a:t>      пент</a:t>
            </a:r>
            <a:r>
              <a:rPr b="0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49400" y="2491920"/>
            <a:ext cx="388476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9090d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14</a:t>
            </a:r>
            <a:r>
              <a:rPr b="0" lang="ru-RU" sz="2800" spc="-1" strike="noStrike">
                <a:solidFill>
                  <a:srgbClr val="09090d"/>
                </a:solidFill>
                <a:latin typeface="Arial"/>
              </a:rPr>
              <a:t>      гекс</a:t>
            </a:r>
            <a:r>
              <a:rPr b="0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7</a:t>
            </a: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16</a:t>
            </a:r>
            <a:r>
              <a:rPr b="0" lang="ru-RU" sz="2800" spc="-1" strike="noStrike">
                <a:solidFill>
                  <a:srgbClr val="09090d"/>
                </a:solidFill>
                <a:latin typeface="Arial"/>
              </a:rPr>
              <a:t>      гепт</a:t>
            </a:r>
            <a:r>
              <a:rPr b="0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8</a:t>
            </a: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18</a:t>
            </a:r>
            <a:r>
              <a:rPr b="0" lang="ru-RU" sz="2800" spc="-1" strike="noStrike">
                <a:solidFill>
                  <a:srgbClr val="09090d"/>
                </a:solidFill>
                <a:latin typeface="Arial"/>
              </a:rPr>
              <a:t>      окт</a:t>
            </a:r>
            <a:r>
              <a:rPr b="0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9</a:t>
            </a: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20</a:t>
            </a:r>
            <a:r>
              <a:rPr b="0" lang="ru-RU" sz="2800" spc="-1" strike="noStrike">
                <a:solidFill>
                  <a:srgbClr val="09090d"/>
                </a:solidFill>
                <a:latin typeface="Arial"/>
              </a:rPr>
              <a:t>      нон</a:t>
            </a:r>
            <a:r>
              <a:rPr b="0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10</a:t>
            </a:r>
            <a:r>
              <a:rPr b="0" lang="en-US" sz="4000" spc="-1" strike="noStrike">
                <a:solidFill>
                  <a:srgbClr val="09090d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9090d"/>
                </a:solidFill>
                <a:latin typeface="Arial"/>
              </a:rPr>
              <a:t>22</a:t>
            </a:r>
            <a:r>
              <a:rPr b="0" lang="ru-RU" sz="2800" spc="-1" strike="noStrike">
                <a:solidFill>
                  <a:srgbClr val="09090d"/>
                </a:solidFill>
                <a:latin typeface="Arial"/>
              </a:rPr>
              <a:t>    дек</a:t>
            </a:r>
            <a:r>
              <a:rPr b="0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451800" y="1481040"/>
            <a:ext cx="8013960" cy="703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мологи – это веществ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ходные по строению и свойствам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отличающиеся на одну или более групп 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A488-557B-4EE9-BE1D-D1D24C4CE2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825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BB15-984D-43B6-B774-5FB7FD3A5B07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26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27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28" name="Rectangle 5"/>
          <p:cNvSpPr/>
          <p:nvPr/>
        </p:nvSpPr>
        <p:spPr>
          <a:xfrm>
            <a:off x="542160" y="12373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Химические свойства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29" name="Text Box 6"/>
          <p:cNvSpPr/>
          <p:nvPr/>
        </p:nvSpPr>
        <p:spPr>
          <a:xfrm>
            <a:off x="900000" y="1736640"/>
            <a:ext cx="274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Реакции замещения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30" name="Rectangle 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831" name="Object 8"/>
          <p:cNvGraphicFramePr/>
          <p:nvPr/>
        </p:nvGraphicFramePr>
        <p:xfrm>
          <a:off x="2195640" y="2276640"/>
          <a:ext cx="4176720" cy="105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5640" y="2276640"/>
                    <a:ext cx="417672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3" name="Rectangle 10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08000" y="4221000"/>
          <a:ext cx="892800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8000" y="4221000"/>
                    <a:ext cx="892800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75EAD-2273-46FA-AEE1-ADD287FAA86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837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AE19-92FB-43CC-BB53-58E2407A6E92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38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39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40" name="Rectangle 5"/>
          <p:cNvSpPr/>
          <p:nvPr/>
        </p:nvSpPr>
        <p:spPr>
          <a:xfrm>
            <a:off x="542160" y="12373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Химические свойства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41" name="Rectangle 6"/>
          <p:cNvSpPr/>
          <p:nvPr/>
        </p:nvSpPr>
        <p:spPr>
          <a:xfrm>
            <a:off x="971640" y="195156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Реакция изомеризации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42" name="Rectangle 16"/>
          <p:cNvSpPr/>
          <p:nvPr/>
        </p:nvSpPr>
        <p:spPr>
          <a:xfrm>
            <a:off x="0" y="36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843" name="Object 15"/>
          <p:cNvGraphicFramePr/>
          <p:nvPr/>
        </p:nvGraphicFramePr>
        <p:xfrm>
          <a:off x="142920" y="2924280"/>
          <a:ext cx="8893080" cy="98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4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2924280"/>
                    <a:ext cx="88930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BA086-3DD1-4473-AA15-0122F58E530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5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846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97F0-BB50-42F1-B352-5DAB9DD527FE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47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48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49" name="Rectangle 5"/>
          <p:cNvSpPr/>
          <p:nvPr/>
        </p:nvSpPr>
        <p:spPr>
          <a:xfrm>
            <a:off x="542160" y="12373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Химические свойства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50" name="Rectangle 6"/>
          <p:cNvSpPr/>
          <p:nvPr/>
        </p:nvSpPr>
        <p:spPr>
          <a:xfrm>
            <a:off x="971640" y="169920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Реакции полимеризации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0" y="36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52" name="Rectangle 10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853" name="Object 9"/>
          <p:cNvGraphicFramePr/>
          <p:nvPr/>
        </p:nvGraphicFramePr>
        <p:xfrm>
          <a:off x="108000" y="2811600"/>
          <a:ext cx="8856720" cy="14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2811600"/>
                    <a:ext cx="885672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6B2C1-4D18-4081-8175-ED87338B283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856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51C8-C001-4D37-8523-02C26B6A6387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57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58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59" name="Rectangle 5"/>
          <p:cNvSpPr/>
          <p:nvPr/>
        </p:nvSpPr>
        <p:spPr>
          <a:xfrm>
            <a:off x="542160" y="12373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Химические свойства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60" name="Rectangle 6"/>
          <p:cNvSpPr/>
          <p:nvPr/>
        </p:nvSpPr>
        <p:spPr>
          <a:xfrm>
            <a:off x="971640" y="169920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Реакции полимеризации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61" name="Rectangle 7"/>
          <p:cNvSpPr/>
          <p:nvPr/>
        </p:nvSpPr>
        <p:spPr>
          <a:xfrm>
            <a:off x="0" y="36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62" name="Rectangle 8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863" name="Object 10"/>
          <p:cNvGraphicFramePr/>
          <p:nvPr/>
        </p:nvGraphicFramePr>
        <p:xfrm>
          <a:off x="755640" y="2492280"/>
          <a:ext cx="7488360" cy="326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4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2492280"/>
                    <a:ext cx="7488360" cy="32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53091-8260-432A-B9BF-BB415A6E300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866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212E-0973-46BE-B8C3-B6898713C188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67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68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69" name="Rectangle 5"/>
          <p:cNvSpPr/>
          <p:nvPr/>
        </p:nvSpPr>
        <p:spPr>
          <a:xfrm>
            <a:off x="542160" y="12373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Химические свойства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70" name="Rectangle 6"/>
          <p:cNvSpPr/>
          <p:nvPr/>
        </p:nvSpPr>
        <p:spPr>
          <a:xfrm>
            <a:off x="971640" y="169920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Реакции полимеризации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0" y="36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72" name="Rectangle 8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73" name="Rectangle 11"/>
          <p:cNvSpPr/>
          <p:nvPr/>
        </p:nvSpPr>
        <p:spPr>
          <a:xfrm>
            <a:off x="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874" name="Object 10"/>
          <p:cNvGraphicFramePr/>
          <p:nvPr/>
        </p:nvGraphicFramePr>
        <p:xfrm>
          <a:off x="324000" y="2421000"/>
          <a:ext cx="8496000" cy="340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5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421000"/>
                    <a:ext cx="8496000" cy="34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9D158-CDE9-4EB5-9318-76DA13D61D6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877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1A67-B7DD-4C4B-B0FD-700736574B6A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78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79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542160" y="12373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Химические свойства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81" name="Rectangle 6"/>
          <p:cNvSpPr/>
          <p:nvPr/>
        </p:nvSpPr>
        <p:spPr>
          <a:xfrm>
            <a:off x="971640" y="169920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Реакции полимеризации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82" name="Rectangle 7"/>
          <p:cNvSpPr/>
          <p:nvPr/>
        </p:nvSpPr>
        <p:spPr>
          <a:xfrm>
            <a:off x="0" y="36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83" name="Rectangle 8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84" name="Rectangle 9"/>
          <p:cNvSpPr/>
          <p:nvPr/>
        </p:nvSpPr>
        <p:spPr>
          <a:xfrm>
            <a:off x="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85" name="Rectangle 12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886" name="Object 11"/>
          <p:cNvGraphicFramePr/>
          <p:nvPr/>
        </p:nvGraphicFramePr>
        <p:xfrm>
          <a:off x="250920" y="2349360"/>
          <a:ext cx="8642160" cy="325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7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349360"/>
                    <a:ext cx="864216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07318-3222-4498-9477-EAFB0D8C0E6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889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6AD9-0112-4B20-AF8C-62989C532B14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90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91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542160" y="12373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Химические свойства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93" name="Rectangle 6"/>
          <p:cNvSpPr/>
          <p:nvPr/>
        </p:nvSpPr>
        <p:spPr>
          <a:xfrm>
            <a:off x="971640" y="169920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Реакции полимеризации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94" name="Rectangle 7"/>
          <p:cNvSpPr/>
          <p:nvPr/>
        </p:nvSpPr>
        <p:spPr>
          <a:xfrm>
            <a:off x="0" y="36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95" name="Rectangle 8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96" name="Rectangle 9"/>
          <p:cNvSpPr/>
          <p:nvPr/>
        </p:nvSpPr>
        <p:spPr>
          <a:xfrm>
            <a:off x="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97" name="Rectangle 10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98" name="Rectangle 13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899" name="Object 12"/>
          <p:cNvGraphicFramePr/>
          <p:nvPr/>
        </p:nvGraphicFramePr>
        <p:xfrm>
          <a:off x="144360" y="2909880"/>
          <a:ext cx="8820360" cy="149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0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2909880"/>
                    <a:ext cx="882036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45896-2E64-430C-B083-4A9B6411130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902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8856-E038-490D-9B3F-68B3D5BEC7C3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03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04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05" name="Rectangle 5"/>
          <p:cNvSpPr/>
          <p:nvPr/>
        </p:nvSpPr>
        <p:spPr>
          <a:xfrm>
            <a:off x="542160" y="12373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Химические свойства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06" name="Rectangle 6"/>
          <p:cNvSpPr/>
          <p:nvPr/>
        </p:nvSpPr>
        <p:spPr>
          <a:xfrm>
            <a:off x="971640" y="169920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Реакции окисления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07" name="Rectangle 14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908" name="Object 13"/>
          <p:cNvGraphicFramePr/>
          <p:nvPr/>
        </p:nvGraphicFramePr>
        <p:xfrm>
          <a:off x="179280" y="2349360"/>
          <a:ext cx="8712360" cy="21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9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349360"/>
                    <a:ext cx="871236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E7B03-DF5C-4AAE-94F8-C879A417858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911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B1E3-0E02-44BC-BD4D-71BFC6C58CD3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12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13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14" name="Rectangle 5"/>
          <p:cNvSpPr/>
          <p:nvPr/>
        </p:nvSpPr>
        <p:spPr>
          <a:xfrm>
            <a:off x="542160" y="12373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Химические свойства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15" name="Rectangle 6"/>
          <p:cNvSpPr/>
          <p:nvPr/>
        </p:nvSpPr>
        <p:spPr>
          <a:xfrm>
            <a:off x="971640" y="169920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Реакции окисления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17" name="Rectangle 10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918" name="Object 9"/>
          <p:cNvGraphicFramePr/>
          <p:nvPr/>
        </p:nvGraphicFramePr>
        <p:xfrm>
          <a:off x="193680" y="2565360"/>
          <a:ext cx="8626320" cy="69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9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3680" y="2565360"/>
                    <a:ext cx="862632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0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921" name="Object 11"/>
          <p:cNvGraphicFramePr/>
          <p:nvPr/>
        </p:nvGraphicFramePr>
        <p:xfrm>
          <a:off x="193680" y="3994200"/>
          <a:ext cx="8459640" cy="658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2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3680" y="3994200"/>
                    <a:ext cx="845964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72C3E-3BB9-4A16-AC6A-9F18FD82591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924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F006-9098-49CD-9DD2-42BC20843AB3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25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26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27" name="Rectangle 5"/>
          <p:cNvSpPr/>
          <p:nvPr/>
        </p:nvSpPr>
        <p:spPr>
          <a:xfrm>
            <a:off x="542160" y="12373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Химические свойства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28" name="Rectangle 6"/>
          <p:cNvSpPr/>
          <p:nvPr/>
        </p:nvSpPr>
        <p:spPr>
          <a:xfrm>
            <a:off x="971640" y="169920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Карбонилирование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29" name="Rectangle 7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30" name="Rectangle 8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31" name="Rectangle 10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32" name="Rectangle 13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933" name="Object 12"/>
          <p:cNvGraphicFramePr/>
          <p:nvPr/>
        </p:nvGraphicFramePr>
        <p:xfrm>
          <a:off x="289080" y="2349360"/>
          <a:ext cx="8604000" cy="22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4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080" y="2349360"/>
                    <a:ext cx="8604000" cy="22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7A213-5BBA-4EB9-8F99-D7F8B9CE585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Радикал – это частица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имеющая не спаренные электроны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684360" y="1844640"/>
          <a:ext cx="7704000" cy="4330800"/>
        </p:xfrm>
        <a:graphic>
          <a:graphicData uri="http://schemas.openxmlformats.org/drawingml/2006/table">
            <a:tbl>
              <a:tblPr/>
              <a:tblGrid>
                <a:gridCol w="1925640"/>
                <a:gridCol w="1927080"/>
                <a:gridCol w="1925640"/>
                <a:gridCol w="1925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числа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 радикала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радикала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о-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СН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ил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-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ил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-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пил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ра-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тил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нта-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нтил</a:t>
                      </a:r>
                      <a:endParaRPr b="0" lang="en-US" sz="2800" spc="-1" strike="noStrike">
                        <a:solidFill>
                          <a:srgbClr val="99c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4E25-3629-4228-B849-3288DC9009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936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8DAA-49E1-4EC2-85F0-0AC93FFDD429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37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38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39" name="Rectangle 5"/>
          <p:cNvSpPr/>
          <p:nvPr/>
        </p:nvSpPr>
        <p:spPr>
          <a:xfrm>
            <a:off x="542160" y="12373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Химические свойства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40" name="Rectangle 6"/>
          <p:cNvSpPr/>
          <p:nvPr/>
        </p:nvSpPr>
        <p:spPr>
          <a:xfrm>
            <a:off x="971640" y="169920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Карбонилирование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41" name="Rectangle 7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42" name="Rectangle 8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43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44" name="Rectangle 10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45" name="Rectangle 13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946" name="Object 12"/>
          <p:cNvGraphicFramePr/>
          <p:nvPr/>
        </p:nvGraphicFramePr>
        <p:xfrm>
          <a:off x="71280" y="2421000"/>
          <a:ext cx="8893440" cy="197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7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" y="2421000"/>
                    <a:ext cx="8893440" cy="19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7D787-88F3-4F06-BAA0-E118A277470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949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7452-42B2-424E-BCB5-F29C7EAAEB66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50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51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542160" y="12373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Химические свойства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53" name="Rectangle 6"/>
          <p:cNvSpPr/>
          <p:nvPr/>
        </p:nvSpPr>
        <p:spPr>
          <a:xfrm>
            <a:off x="971640" y="169920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Присоединение к альдегидам и кетонам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54" name="Rectangle 7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55" name="Rectangle 8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56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57" name="Rectangle 10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58" name="Rectangle 14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959" name="Object 13"/>
          <p:cNvGraphicFramePr/>
          <p:nvPr/>
        </p:nvGraphicFramePr>
        <p:xfrm>
          <a:off x="250920" y="2120760"/>
          <a:ext cx="8280360" cy="56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0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120760"/>
                    <a:ext cx="82803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1" name="Rectangle 16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962" name="Object 15"/>
          <p:cNvGraphicFramePr/>
          <p:nvPr/>
        </p:nvGraphicFramePr>
        <p:xfrm>
          <a:off x="250920" y="2873520"/>
          <a:ext cx="7273800" cy="3936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63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2873520"/>
                    <a:ext cx="727380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F6971-07FC-4D90-8155-95321D5A5D0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965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B1EC-4577-46FF-B45E-503415E26A3A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66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67" name="Text Box 4"/>
          <p:cNvSpPr/>
          <p:nvPr/>
        </p:nvSpPr>
        <p:spPr>
          <a:xfrm>
            <a:off x="611280" y="1268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68" name="Rectangle 5"/>
          <p:cNvSpPr/>
          <p:nvPr/>
        </p:nvSpPr>
        <p:spPr>
          <a:xfrm>
            <a:off x="542160" y="123732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Химические свойства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69" name="Rectangle 6"/>
          <p:cNvSpPr/>
          <p:nvPr/>
        </p:nvSpPr>
        <p:spPr>
          <a:xfrm>
            <a:off x="971640" y="169920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Присоединение к альдегидам и кетонам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70" name="Rectangle 13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971" name="Picture 15" descr=""/>
          <p:cNvPicPr/>
          <p:nvPr/>
        </p:nvPicPr>
        <p:blipFill>
          <a:blip r:embed="rId2"/>
          <a:stretch/>
        </p:blipFill>
        <p:spPr>
          <a:xfrm>
            <a:off x="179280" y="2349360"/>
            <a:ext cx="8713800" cy="1814760"/>
          </a:xfrm>
          <a:prstGeom prst="rect">
            <a:avLst/>
          </a:prstGeom>
          <a:ln w="0">
            <a:noFill/>
          </a:ln>
        </p:spPr>
      </p:pic>
      <p:sp>
        <p:nvSpPr>
          <p:cNvPr id="972" name="Rectangle 17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graphicFrame>
        <p:nvGraphicFramePr>
          <p:cNvPr id="973" name="Object 16"/>
          <p:cNvGraphicFramePr/>
          <p:nvPr/>
        </p:nvGraphicFramePr>
        <p:xfrm>
          <a:off x="179280" y="4897440"/>
          <a:ext cx="5905440" cy="112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4897440"/>
                    <a:ext cx="590544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A6CD1-60D7-4DFB-862A-F12AB691F1C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Rectangle 2" descr=""/>
          <p:cNvPicPr/>
          <p:nvPr/>
        </p:nvPicPr>
        <p:blipFill>
          <a:blip r:embed="rId1"/>
          <a:stretch/>
        </p:blipFill>
        <p:spPr>
          <a:xfrm>
            <a:off x="469800" y="298440"/>
            <a:ext cx="8564760" cy="1000080"/>
          </a:xfrm>
          <a:prstGeom prst="rect">
            <a:avLst/>
          </a:prstGeom>
          <a:ln w="0">
            <a:noFill/>
          </a:ln>
        </p:spPr>
      </p:pic>
      <p:sp>
        <p:nvSpPr>
          <p:cNvPr id="976" name="Номер слайда 4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F735-30FC-40DB-812A-7FAFD47A2D30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77" name="Line 3"/>
          <p:cNvSpPr/>
          <p:nvPr/>
        </p:nvSpPr>
        <p:spPr>
          <a:xfrm>
            <a:off x="539640" y="1125360"/>
            <a:ext cx="8136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78" name="Rectangle 5"/>
          <p:cNvSpPr/>
          <p:nvPr/>
        </p:nvSpPr>
        <p:spPr>
          <a:xfrm>
            <a:off x="542160" y="1054080"/>
            <a:ext cx="27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Отдельные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представители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79" name="Rectangle 6"/>
          <p:cNvSpPr/>
          <p:nvPr/>
        </p:nvSpPr>
        <p:spPr>
          <a:xfrm>
            <a:off x="971640" y="209448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Ацетилен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80" name="Rectangle 7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981" name="Picture 11" descr="azetilen"/>
          <p:cNvPicPr/>
          <p:nvPr/>
        </p:nvPicPr>
        <p:blipFill>
          <a:blip r:embed="rId2"/>
          <a:stretch/>
        </p:blipFill>
        <p:spPr>
          <a:xfrm>
            <a:off x="3203640" y="0"/>
            <a:ext cx="56577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78F33-57E4-4C4B-9E04-ABCACBFA4D1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лке́ны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олефины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этиленовые углеводороды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 — ациклические непредельные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углеводороды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содержащие одну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двойную связь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между атомами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углерод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образующие гомологический ряд с общей формулой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CnH2n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Атомы углерода при двойной связи находятся в состоянии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sp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² гибридизац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и имеют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валентный угол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120°. Простейшим алкеном является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этилен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C2H4). По номенклатуре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IUPAC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названия алкенов образуются от названий соответствующих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алканов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заменой суффикса «-ан» на «-ен»; положение двойной связи указывается арабской цифро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глеводородные радикалы, образованные от алкенов имеют суффикс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-енил»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Тривиальные названия: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CH2=CH—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«винил»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CH2=CH—CH2—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«аллил»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00A55-AFDA-46DC-BCD7-6B987E05F44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Гомологический ряд и изомерия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лкены, число атомов углерода в которых больше двух, (т.е. кроме этилена) имеют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изомер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Для алкенов характерны изомерия углеродного скелета, положения двойной связи, межклассовая и пространственная. Например, единственным изомером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пропен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является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циклопропан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C3H6) по межклассовой изомерии. Начиная с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бутен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существуют изомеры по положению двойной связи (бутен-1 и бутен-2), по углеродному скелету (изобутилен или метилпропен) и геометрические изомеры (цис-бутен-2 и транс-бутен-2). С ростом числа атомов углерода в молекуле количество изомеров быстро возрастае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55C24-5913-4595-9ECD-03D4C95B44C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эте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этиле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-C2H4,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пропе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C3H6,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буте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C4H8,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пенте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C5H10,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гексе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C6H12,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гепте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C7H14,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окте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C8H16,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ноне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C9H18,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деце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C10H2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лкены могут существовать в виде пространственных или геометрических изомер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зличают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цис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зомеры: заместители расположены по одну сторону от двойной связ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транс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зомеры: заместители расположены по разные стороны от двойной связ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IUPAC рекомендует называть геометрические изомеры по следующей номенклатур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Z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зомеры: старшие заместители у углеродных атомов двойной связи находятся по одну сторону относительно двойной связ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E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зомеры: старшие заместители у углеродных атомов двойной связи находятся по разные стороны относительно двойной связ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59AF0-94D3-46D1-9A4C-D832571B307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Электронное строение двойной связи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соответствии с 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теорией гибридизации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двойная связь образуется за сче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ерекрывания вдоль линии связи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-С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sp²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гибридных орбиталей атомов углерод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связь) и бокового перекрывания углеродных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орбиталей (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π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связь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хема образования связей в молекуле этиле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состоянии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sp² гибридизации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электронное состояние атома углерод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ожно представить следующим образом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се атомы этилена лежат в одной плоскости, а величина валентного угл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вязи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C-H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практически равна 120°. Центры углеродных атомов в этилен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аходятся на расстоянии 0,134 нм, то есть длина двойной связи несколько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роче, чем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-С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огласно 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теории молекулярных 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орбиталей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линейная комбинация двух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атомных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2p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орбиталей углерода формирует две молекулярные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π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рбитали этилена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[1]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0D98E-2A95-456A-AF5D-4A9DD5DD3DF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вый потенциал ионизации этилена составляет 10,51 эВ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[2]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что позволяет электрону относительно легко уходить (электрофильное взаимодействие) с высшей занятой молекулярной орбитали (ВЗМО). В то же время, низшая связывающая молекулярная орбиталь (НСМО) этилена имеет достаточно низкую энергию: −1,6-1,8 эВ, что объясняет относительную легкость присоединения электрона с образованием аниона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[2]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нуклеофильное взаимодействие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бавление метильного заместителя снижает потенциал ионизации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электронов примерно на 0,6-0,8 эВ и повышает энергию НСМО на 0,2 эВ, а ВЗМО на 0,7 эВ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[2]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1B29E-BE3D-48A1-9705-32361F9F754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История открытия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первые этилен был получен в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1669 году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немецким химиком и врачом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Бехером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действием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серной кислоты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на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этиловый спирт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. Ученый установил, что его «воздух» более химически активен, чем метан, однако, идентифицировать полученный газ он не смог и названия ему не присвоил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[3]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торично и тем же способом «воздух Бехера» был получен и описан голландскими химиками Дейманом, Потс-ван-Трооствиком, Бондом и Лауверенбургом в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1795 году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. Они назвали его «маслородным газом» так как при взаимодействии с хлором, он образовывал маслянистую жидкость —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дихлорэтан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(об этом стало известно позднее). По-французски «маслородный» — oléfiant. Французский химик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Антуан Фуркруа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ввёл этот термин в практику, а когда были обнаружены другие углеводороды такого же типа, это название стало общим для всего класса олефинов (или, по современной номенклатуре, алкенов)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[4]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 начале XIX века французский химик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Ж. Гей-Люссак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обнаружил, что этанол состоит из «маслородного» газа и воды. Этот же газ он обнаружил и в хлористом этиле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[5]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. В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1828 году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Ж. Дюма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и П. Буллей предположили, что этилен представляет собой основание, способное давать соли подобно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аммиаку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Якоб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 Берцелиус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принял эту идею, назвав соединение «этерином» и обозначив буквой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7"/>
              </a:rPr>
              <a:t>[6]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пределив, что этилен состоит из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8"/>
              </a:rPr>
              <a:t>водорода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9"/>
              </a:rPr>
              <a:t>углерода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, долгое время химики не могли выписать его настоящую формулу. В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20"/>
              </a:rPr>
              <a:t>1848 году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21"/>
              </a:rPr>
              <a:t>Кольбе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писал формулу этилена как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4Н4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, этого же мнения придерживался и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22"/>
              </a:rPr>
              <a:t>Либих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23"/>
              </a:rPr>
              <a:t>Ж. Дюма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правильно определил состав вещества, но его структура по-прежнему была описана неверно: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2НН3</a:t>
            </a:r>
            <a:r>
              <a:rPr b="1" lang="ru-RU" sz="1400" spc="-1" strike="noStrike" u="sng">
                <a:solidFill>
                  <a:srgbClr val="ff0000"/>
                </a:solidFill>
                <a:uFillTx/>
                <a:latin typeface="Tahoma"/>
                <a:hlinkClick r:id="rId24"/>
              </a:rPr>
              <a:t>[5]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25"/>
              </a:rPr>
              <a:t>1862 году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немецкий химик-органик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26"/>
              </a:rPr>
              <a:t>Э.Эрленмейер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предположил наличие в молекуле этилена двойной связи, а в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27"/>
              </a:rPr>
              <a:t>1870 году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известный российский ученый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28"/>
              </a:rPr>
              <a:t>А. М. Бутлеров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признал эту точку зрения правильной, подтвердив её природу экспериментально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29"/>
              </a:rPr>
              <a:t>[7]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9287B-E46E-4552-B279-5C1777BAC1D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зомерия и номенклатура алка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труктурная изомерия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CH - C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C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Алгоритм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бор главной цеп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CH - C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C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EA37-E44D-4DE2-8E22-63F48F546B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" dur="10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332000" y="981000"/>
            <a:ext cx="7611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Нахождение в природе и физиологическая роль алкенов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природе ациклические алкены практически не встречаются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[8]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Простейший представитель этого класса органических соединений —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этилен (C2H4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— является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гормоном для растени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 в незначительном количестве в них синтезируетс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дин из немногих природных алкенов —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мускалур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цис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трикозен-9) является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половым аттрактантом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самки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домашней мух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Musca domestica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изшие алкены в высоких концентрациях обладают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наркотическим эффектом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Высшие члены ряда также вызывают судороги и раздражение слизистых оболочек дыхательных путей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[9]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дельные представители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Этиле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— вызывает наркоз, обладает раздражающим и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мутагенным действием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Пропиле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— вызывает наркоз (сильнее, чем этилен), оказывает общетоксическое и мутагенное действи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Бутен-2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— вызывает наркоз, обладает раздражающим действием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[9]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7DDAB-1360-4DC7-899D-21CF4A82E84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Физические свойства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мпературы плавления и кипения алкенов (упрощенно) увеличиваются с молекулярной массой и длиной главной углеродной цеп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нормальных условиях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алкены с C2H4 до C4H8 — газы; с C5H10 до C17H34 — жидкости, после C18H36 — твёрдые тела. Алкены не растворяются в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вод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но хорошо растворяются в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органических растворителях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0209E-0CD4-42E4-AA0E-11D10F9C7EA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Методы получения алкенов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новным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промышленным методо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получения алкенов является каталитический и высокотемпературный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крекинг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углеводород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нефт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природного газ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Для производства низших алкенов используют также реакцию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дегидратаци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оответствующих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спирт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лабораторной практик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обычно применяют метод дегидратации спиртов в присутствии сильных минеральных кислот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[1]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дегидрогалогенирование и дегалогенирование соответствующих галогенпроизводных; синтезы Гофмана, Чугаева, Виттига и Коупа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[11]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CB4E6-D82A-47EC-B033-58309611BF4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Дегидрирование алканов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о один из промышленных способов получения алкенов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[12]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[13]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Температура: 350—450 °C, катализатор —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Cr2O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Также используются алюмомолибденовые и алюмоплатиновые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катализаторы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[14]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2" name="" descr="\mathsf{CH_3\!\!-\!\!CH_3}\rightarrow\mathsf{CH_2\!\!=\!\!CH_2+H_2}"/>
          <p:cNvPicPr/>
          <p:nvPr/>
        </p:nvPicPr>
        <p:blipFill>
          <a:blip r:embed="rId6"/>
          <a:stretch/>
        </p:blipFill>
        <p:spPr>
          <a:xfrm>
            <a:off x="155520" y="46080"/>
            <a:ext cx="2238480" cy="16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DD96C-51CF-422E-B260-BC20E1296AE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Дегидрогалогенирование и дегалогенирование алканов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щепление галогенов у дигалогеналканов происходит в присутствии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цинка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[15]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егидрогалогенирование проводят при нагревании действием спиртовыми растворами щелочей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[16]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отщеплении галогенводорода образуется смесь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изомер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преобладающий из которых определяется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правилом Зайцев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отщепление протона происходит от менее гидрогенизированного атома углер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F099B-86A3-412E-8D02-32E04058838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Применение алкенов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мышленное использование этиле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Этилен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используется для производства целого ряда химических соединений: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винилхлорид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стирол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этиленгликол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этиленоксид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этаноламин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этанол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диоксан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дихлорэтан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уксусного альдегид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уксусной кислоты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[15]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Полимеризацией этилена и его прямых производных получают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полиэтилен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поливинилацетат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поливинилхлорид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каучук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17"/>
              </a:rPr>
              <a:t>смазочные масл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ировое производство этилена составляет порядка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00 млн тонн в год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18"/>
              </a:rPr>
              <a:t>[50]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по данным на 2005 год: 107 млн тонн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19"/>
              </a:rPr>
              <a:t>[51]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C2389-3313-4880-8DBA-5BC763B83122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мышленное использование пропиле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Пропилен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 промышленности применяется, в основном, для синтеза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полипропилен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62 % процента всего выпускаемого объема[52]). Также из него получают кумол, окись пропилена, акрилонитрил, изопропанол, глицерин, масляный альдегид[15]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настоящее время мировые мощности по выпуску пропилена составляют около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70 млн тонн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 год[52]. По прогнозам специалистов, потребность в пропилене в ближайшем будущем будет существенно превышать объемы его производства, причем, ожидается, что к 2010 году объем его мирового выпуска достигне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90 млн тонн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[53]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2B420-7BB2-44FA-AA4F-755D48208294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мышленное использование прочих алкен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утилены применяют для производства бутадиена, изопрена, полиизобутилена, бутилкаучука, метилэтилкетона и п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обутилен — сырье для получения бутилкаучука, изопрена, трет-бутанола; используется для алкилирования фенолов при синтезе ПАВ. Его сополимеры с бутенами применяют как присадки к маслам и гермети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сшие алкены С10−С18 применяют при синтезе ПАВ, а также для получения высших спирт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FCC3D-804E-4979-B40F-C192B7C303D8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зомерия и номенклатура алка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умерация атомов главной цеп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         2      3      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CH - 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FAA2-62B3-40CF-ACE8-16A3EC9F8D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" dur="10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зомерия и номенклатура алка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66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996666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ирование назван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        2       3     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CH - 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тилбу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C6F2-DEAC-4F3C-838C-06A009F815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2"/>
          <p:cNvSpPr/>
          <p:nvPr/>
        </p:nvSpPr>
        <p:spPr>
          <a:xfrm>
            <a:off x="1219320" y="2971800"/>
            <a:ext cx="533160" cy="1066680"/>
          </a:xfrm>
          <a:prstGeom prst="pi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15" name="Oval 3"/>
          <p:cNvSpPr/>
          <p:nvPr/>
        </p:nvSpPr>
        <p:spPr>
          <a:xfrm>
            <a:off x="1219320" y="2890800"/>
            <a:ext cx="533160" cy="6094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16" name="AutoShape 4"/>
          <p:cNvSpPr/>
          <p:nvPr/>
        </p:nvSpPr>
        <p:spPr>
          <a:xfrm rot="14434200">
            <a:off x="755280" y="3714480"/>
            <a:ext cx="533520" cy="1143000"/>
          </a:xfrm>
          <a:prstGeom prst="pi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17" name="Oval 5"/>
          <p:cNvSpPr/>
          <p:nvPr/>
        </p:nvSpPr>
        <p:spPr>
          <a:xfrm rot="12565800">
            <a:off x="457200" y="4190760"/>
            <a:ext cx="533520" cy="6094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18" name="AutoShape 6"/>
          <p:cNvSpPr/>
          <p:nvPr/>
        </p:nvSpPr>
        <p:spPr>
          <a:xfrm rot="7802400">
            <a:off x="1638000" y="3847680"/>
            <a:ext cx="533520" cy="1066680"/>
          </a:xfrm>
          <a:prstGeom prst="pi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19" name="Oval 7"/>
          <p:cNvSpPr/>
          <p:nvPr/>
        </p:nvSpPr>
        <p:spPr>
          <a:xfrm rot="18468000">
            <a:off x="1866600" y="4305240"/>
            <a:ext cx="533520" cy="6094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20" name="AutoShape 8"/>
          <p:cNvSpPr/>
          <p:nvPr/>
        </p:nvSpPr>
        <p:spPr>
          <a:xfrm rot="5121600">
            <a:off x="1713960" y="3467160"/>
            <a:ext cx="533160" cy="1066680"/>
          </a:xfrm>
          <a:prstGeom prst="pi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21" name="Oval 9"/>
          <p:cNvSpPr/>
          <p:nvPr/>
        </p:nvSpPr>
        <p:spPr>
          <a:xfrm rot="4836600">
            <a:off x="2017080" y="3678120"/>
            <a:ext cx="533520" cy="6094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22" name="AutoShape 10"/>
          <p:cNvSpPr/>
          <p:nvPr/>
        </p:nvSpPr>
        <p:spPr>
          <a:xfrm rot="16442400">
            <a:off x="1295280" y="3809520"/>
            <a:ext cx="75960" cy="380880"/>
          </a:xfrm>
          <a:prstGeom prst="pi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23" name="AutoShape 11"/>
          <p:cNvSpPr/>
          <p:nvPr/>
        </p:nvSpPr>
        <p:spPr>
          <a:xfrm rot="18134400">
            <a:off x="1326960" y="3790800"/>
            <a:ext cx="76320" cy="304920"/>
          </a:xfrm>
          <a:prstGeom prst="pi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24" name="AutoShape 12"/>
          <p:cNvSpPr/>
          <p:nvPr/>
        </p:nvSpPr>
        <p:spPr>
          <a:xfrm rot="2741400">
            <a:off x="1539720" y="3745080"/>
            <a:ext cx="76320" cy="304920"/>
          </a:xfrm>
          <a:prstGeom prst="pi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25" name="AutoShape 13"/>
          <p:cNvSpPr/>
          <p:nvPr/>
        </p:nvSpPr>
        <p:spPr>
          <a:xfrm rot="10800000">
            <a:off x="1447560" y="3962520"/>
            <a:ext cx="75960" cy="304560"/>
          </a:xfrm>
          <a:prstGeom prst="pi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26" name="Line 14"/>
          <p:cNvSpPr/>
          <p:nvPr/>
        </p:nvSpPr>
        <p:spPr>
          <a:xfrm>
            <a:off x="1523880" y="4038480"/>
            <a:ext cx="38124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27" name="Oval 15"/>
          <p:cNvSpPr/>
          <p:nvPr/>
        </p:nvSpPr>
        <p:spPr>
          <a:xfrm>
            <a:off x="1981080" y="4495680"/>
            <a:ext cx="53352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28" name="Oval 16"/>
          <p:cNvSpPr/>
          <p:nvPr/>
        </p:nvSpPr>
        <p:spPr>
          <a:xfrm>
            <a:off x="304920" y="4343400"/>
            <a:ext cx="53316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29" name="Oval 17"/>
          <p:cNvSpPr/>
          <p:nvPr/>
        </p:nvSpPr>
        <p:spPr>
          <a:xfrm>
            <a:off x="2286000" y="3733920"/>
            <a:ext cx="53352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30" name="Oval 18"/>
          <p:cNvSpPr/>
          <p:nvPr/>
        </p:nvSpPr>
        <p:spPr>
          <a:xfrm>
            <a:off x="1219320" y="2590920"/>
            <a:ext cx="533160" cy="4572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762120" y="5486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90d"/>
                </a:solidFill>
                <a:latin typeface="Times New Roman"/>
              </a:rPr>
              <a:t>Метан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32" name="Text Box 23"/>
          <p:cNvSpPr/>
          <p:nvPr/>
        </p:nvSpPr>
        <p:spPr>
          <a:xfrm>
            <a:off x="395280" y="1413000"/>
            <a:ext cx="625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909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9090d"/>
                </a:solidFill>
                <a:latin typeface="Times New Roman"/>
              </a:rPr>
              <a:t>Для алканов характерна </a:t>
            </a: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sp</a:t>
            </a:r>
            <a:r>
              <a:rPr b="0" lang="en-US" sz="24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³-</a:t>
            </a:r>
            <a:r>
              <a:rPr b="0" lang="ru-RU" sz="2400" spc="-1" strike="noStrike">
                <a:solidFill>
                  <a:srgbClr val="09090d"/>
                </a:solidFill>
                <a:latin typeface="Times New Roman"/>
              </a:rPr>
              <a:t>гибридизация</a:t>
            </a: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buClr>
                <a:srgbClr val="0909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9090d"/>
                </a:solidFill>
                <a:latin typeface="Times New Roman"/>
              </a:rPr>
              <a:t>Длина С-С – связи = 0</a:t>
            </a: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,154 </a:t>
            </a:r>
            <a:r>
              <a:rPr b="0" lang="ru-RU" sz="2400" spc="-1" strike="noStrike">
                <a:solidFill>
                  <a:srgbClr val="09090d"/>
                </a:solidFill>
                <a:latin typeface="Times New Roman"/>
              </a:rPr>
              <a:t>нм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buClr>
                <a:srgbClr val="0909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9090d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9090d"/>
                </a:solidFill>
                <a:latin typeface="Times New Roman"/>
              </a:rPr>
              <a:t>Углы между орбиталями = 109</a:t>
            </a:r>
            <a:r>
              <a:rPr b="0" lang="en-US" sz="24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°</a:t>
            </a:r>
            <a:r>
              <a:rPr b="0" lang="ru-RU" sz="24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 28</a:t>
            </a:r>
            <a:r>
              <a:rPr b="0" lang="en-US" sz="24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´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33" name="Text Box 24"/>
          <p:cNvSpPr/>
          <p:nvPr/>
        </p:nvSpPr>
        <p:spPr>
          <a:xfrm>
            <a:off x="4287960" y="5229360"/>
            <a:ext cx="388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9090d"/>
                </a:solidFill>
                <a:latin typeface="Times New Roman"/>
              </a:rPr>
              <a:t>Перекрывание гибридных электронных 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9090d"/>
                </a:solidFill>
                <a:latin typeface="Times New Roman"/>
              </a:rPr>
              <a:t>облаков атомов углерода облаками атомов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9090d"/>
                </a:solidFill>
                <a:latin typeface="Times New Roman"/>
              </a:rPr>
              <a:t>водорода (молекула метана)</a:t>
            </a:r>
            <a:r>
              <a:rPr b="0" lang="en-US" sz="1600" spc="-1" strike="noStrike">
                <a:solidFill>
                  <a:srgbClr val="09090d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34" name="Oval 25"/>
          <p:cNvSpPr/>
          <p:nvPr/>
        </p:nvSpPr>
        <p:spPr>
          <a:xfrm>
            <a:off x="4267080" y="3886200"/>
            <a:ext cx="457200" cy="4572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35" name="AutoShape 26"/>
          <p:cNvSpPr/>
          <p:nvPr/>
        </p:nvSpPr>
        <p:spPr>
          <a:xfrm rot="16304400">
            <a:off x="5751360" y="3468600"/>
            <a:ext cx="233280" cy="610920"/>
          </a:xfrm>
          <a:prstGeom prst="flowChartCollat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36" name="AutoShape 27"/>
          <p:cNvSpPr/>
          <p:nvPr/>
        </p:nvSpPr>
        <p:spPr>
          <a:xfrm>
            <a:off x="6400800" y="4114800"/>
            <a:ext cx="609480" cy="76320"/>
          </a:xfrm>
          <a:prstGeom prst="rightArrow">
            <a:avLst>
              <a:gd name="adj1" fmla="val 50000"/>
              <a:gd name="adj2" fmla="val 19964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37" name="Text Box 28"/>
          <p:cNvSpPr/>
          <p:nvPr/>
        </p:nvSpPr>
        <p:spPr>
          <a:xfrm>
            <a:off x="4877640" y="380988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38" name="Oval 29"/>
          <p:cNvSpPr/>
          <p:nvPr/>
        </p:nvSpPr>
        <p:spPr>
          <a:xfrm>
            <a:off x="5410080" y="3657600"/>
            <a:ext cx="228600" cy="22860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39" name="Oval 30"/>
          <p:cNvSpPr/>
          <p:nvPr/>
        </p:nvSpPr>
        <p:spPr>
          <a:xfrm>
            <a:off x="6095880" y="3657600"/>
            <a:ext cx="228600" cy="22860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40" name="AutoShape 31"/>
          <p:cNvSpPr/>
          <p:nvPr/>
        </p:nvSpPr>
        <p:spPr>
          <a:xfrm rot="16304400">
            <a:off x="5751360" y="3773520"/>
            <a:ext cx="233280" cy="610920"/>
          </a:xfrm>
          <a:prstGeom prst="flowChartCollat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41" name="Oval 32"/>
          <p:cNvSpPr/>
          <p:nvPr/>
        </p:nvSpPr>
        <p:spPr>
          <a:xfrm>
            <a:off x="5410080" y="3962520"/>
            <a:ext cx="228600" cy="22860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42" name="Oval 33"/>
          <p:cNvSpPr/>
          <p:nvPr/>
        </p:nvSpPr>
        <p:spPr>
          <a:xfrm>
            <a:off x="6095880" y="3962520"/>
            <a:ext cx="228600" cy="22860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43" name="AutoShape 34"/>
          <p:cNvSpPr/>
          <p:nvPr/>
        </p:nvSpPr>
        <p:spPr>
          <a:xfrm rot="16304400">
            <a:off x="5751360" y="4077720"/>
            <a:ext cx="233640" cy="610920"/>
          </a:xfrm>
          <a:prstGeom prst="flowChartCollat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44" name="Oval 35"/>
          <p:cNvSpPr/>
          <p:nvPr/>
        </p:nvSpPr>
        <p:spPr>
          <a:xfrm>
            <a:off x="5410080" y="4267080"/>
            <a:ext cx="228600" cy="22860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45" name="Oval 36"/>
          <p:cNvSpPr/>
          <p:nvPr/>
        </p:nvSpPr>
        <p:spPr>
          <a:xfrm>
            <a:off x="6095880" y="4267080"/>
            <a:ext cx="228600" cy="22860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46" name="AutoShape 37"/>
          <p:cNvSpPr/>
          <p:nvPr/>
        </p:nvSpPr>
        <p:spPr>
          <a:xfrm rot="16212600">
            <a:off x="7543800" y="3656880"/>
            <a:ext cx="227160" cy="531720"/>
          </a:xfrm>
          <a:prstGeom prst="flowChartExtract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47" name="Oval 38"/>
          <p:cNvSpPr/>
          <p:nvPr/>
        </p:nvSpPr>
        <p:spPr>
          <a:xfrm rot="21526200">
            <a:off x="7849800" y="3809880"/>
            <a:ext cx="228600" cy="22860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48" name="AutoShape 39"/>
          <p:cNvSpPr/>
          <p:nvPr/>
        </p:nvSpPr>
        <p:spPr>
          <a:xfrm rot="16146000">
            <a:off x="7277040" y="3772080"/>
            <a:ext cx="76320" cy="304560"/>
          </a:xfrm>
          <a:prstGeom prst="pi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49" name="AutoShape 40"/>
          <p:cNvSpPr/>
          <p:nvPr/>
        </p:nvSpPr>
        <p:spPr>
          <a:xfrm rot="16212600">
            <a:off x="7542000" y="3961800"/>
            <a:ext cx="227160" cy="532080"/>
          </a:xfrm>
          <a:prstGeom prst="flowChartExtract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50" name="Oval 41"/>
          <p:cNvSpPr/>
          <p:nvPr/>
        </p:nvSpPr>
        <p:spPr>
          <a:xfrm rot="21526200">
            <a:off x="7848360" y="4114800"/>
            <a:ext cx="228600" cy="22860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51" name="AutoShape 42"/>
          <p:cNvSpPr/>
          <p:nvPr/>
        </p:nvSpPr>
        <p:spPr>
          <a:xfrm rot="16146000">
            <a:off x="7275600" y="4076280"/>
            <a:ext cx="75960" cy="304920"/>
          </a:xfrm>
          <a:prstGeom prst="pi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52" name="AutoShape 43"/>
          <p:cNvSpPr/>
          <p:nvPr/>
        </p:nvSpPr>
        <p:spPr>
          <a:xfrm rot="16212600">
            <a:off x="7542360" y="4266720"/>
            <a:ext cx="226800" cy="532080"/>
          </a:xfrm>
          <a:prstGeom prst="flowChartExtract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53" name="Oval 44"/>
          <p:cNvSpPr/>
          <p:nvPr/>
        </p:nvSpPr>
        <p:spPr>
          <a:xfrm rot="21526200">
            <a:off x="7848360" y="4419720"/>
            <a:ext cx="228600" cy="22860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54" name="AutoShape 45"/>
          <p:cNvSpPr/>
          <p:nvPr/>
        </p:nvSpPr>
        <p:spPr>
          <a:xfrm rot="16146000">
            <a:off x="7275240" y="4381200"/>
            <a:ext cx="76320" cy="304920"/>
          </a:xfrm>
          <a:prstGeom prst="pi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55" name="AutoShape 46"/>
          <p:cNvSpPr/>
          <p:nvPr/>
        </p:nvSpPr>
        <p:spPr>
          <a:xfrm rot="16212600">
            <a:off x="7542360" y="3352320"/>
            <a:ext cx="226800" cy="532080"/>
          </a:xfrm>
          <a:prstGeom prst="flowChartExtract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56" name="Oval 47"/>
          <p:cNvSpPr/>
          <p:nvPr/>
        </p:nvSpPr>
        <p:spPr>
          <a:xfrm rot="21526200">
            <a:off x="7848360" y="3505320"/>
            <a:ext cx="228600" cy="22860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57" name="AutoShape 48"/>
          <p:cNvSpPr/>
          <p:nvPr/>
        </p:nvSpPr>
        <p:spPr>
          <a:xfrm rot="16146000">
            <a:off x="7275240" y="3466800"/>
            <a:ext cx="76320" cy="304920"/>
          </a:xfrm>
          <a:prstGeom prst="pi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58" name="Line 49"/>
          <p:cNvSpPr/>
          <p:nvPr/>
        </p:nvSpPr>
        <p:spPr>
          <a:xfrm flipH="1">
            <a:off x="533520" y="2819520"/>
            <a:ext cx="914400" cy="175248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59" name="Line 50"/>
          <p:cNvSpPr/>
          <p:nvPr/>
        </p:nvSpPr>
        <p:spPr>
          <a:xfrm>
            <a:off x="533520" y="4572000"/>
            <a:ext cx="1752480" cy="15228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60" name="Line 51"/>
          <p:cNvSpPr/>
          <p:nvPr/>
        </p:nvSpPr>
        <p:spPr>
          <a:xfrm flipV="1">
            <a:off x="2286000" y="3962520"/>
            <a:ext cx="304920" cy="76176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61" name="Line 52"/>
          <p:cNvSpPr/>
          <p:nvPr/>
        </p:nvSpPr>
        <p:spPr>
          <a:xfrm flipH="1" flipV="1">
            <a:off x="1447560" y="2819160"/>
            <a:ext cx="1143000" cy="114300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62" name="Line 53"/>
          <p:cNvSpPr/>
          <p:nvPr/>
        </p:nvSpPr>
        <p:spPr>
          <a:xfrm flipV="1">
            <a:off x="533520" y="3962160"/>
            <a:ext cx="2057400" cy="60948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63" name="Line 54"/>
          <p:cNvSpPr/>
          <p:nvPr/>
        </p:nvSpPr>
        <p:spPr>
          <a:xfrm flipV="1">
            <a:off x="533520" y="4038480"/>
            <a:ext cx="914400" cy="53352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64" name="Line 55"/>
          <p:cNvSpPr/>
          <p:nvPr/>
        </p:nvSpPr>
        <p:spPr>
          <a:xfrm>
            <a:off x="1447920" y="2819520"/>
            <a:ext cx="0" cy="121896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65" name="Line 56"/>
          <p:cNvSpPr/>
          <p:nvPr/>
        </p:nvSpPr>
        <p:spPr>
          <a:xfrm flipH="1">
            <a:off x="1447560" y="3962520"/>
            <a:ext cx="1143000" cy="7596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66" name="Line 57"/>
          <p:cNvSpPr/>
          <p:nvPr/>
        </p:nvSpPr>
        <p:spPr>
          <a:xfrm flipH="1" flipV="1">
            <a:off x="1447920" y="3962520"/>
            <a:ext cx="838080" cy="76176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67" name="AutoShape 58"/>
          <p:cNvSpPr/>
          <p:nvPr/>
        </p:nvSpPr>
        <p:spPr>
          <a:xfrm rot="1103400">
            <a:off x="2895120" y="5181120"/>
            <a:ext cx="990720" cy="230400"/>
          </a:xfrm>
          <a:prstGeom prst="leftArrow">
            <a:avLst>
              <a:gd name="adj1" fmla="val 50000"/>
              <a:gd name="adj2" fmla="val 107500"/>
            </a:avLst>
          </a:prstGeom>
          <a:solidFill>
            <a:srgbClr val="99d9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68" name="Line 59"/>
          <p:cNvSpPr/>
          <p:nvPr/>
        </p:nvSpPr>
        <p:spPr>
          <a:xfrm flipH="1">
            <a:off x="0" y="4572000"/>
            <a:ext cx="533520" cy="38088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69" name="Line 60"/>
          <p:cNvSpPr/>
          <p:nvPr/>
        </p:nvSpPr>
        <p:spPr>
          <a:xfrm>
            <a:off x="2286000" y="4724280"/>
            <a:ext cx="380880" cy="381240"/>
          </a:xfrm>
          <a:prstGeom prst="line">
            <a:avLst/>
          </a:prstGeom>
          <a:ln w="9360">
            <a:solidFill>
              <a:srgbClr val="090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70" name="Freeform 61"/>
          <p:cNvSpPr/>
          <p:nvPr/>
        </p:nvSpPr>
        <p:spPr>
          <a:xfrm>
            <a:off x="228600" y="4800600"/>
            <a:ext cx="2209680" cy="393840"/>
          </a:xfrm>
          <a:prstGeom prst="pie">
            <a:avLst/>
          </a:prstGeom>
          <a:noFill/>
          <a:ln w="9360">
            <a:solidFill>
              <a:srgbClr val="0909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71" name="Line 62"/>
          <p:cNvSpPr/>
          <p:nvPr/>
        </p:nvSpPr>
        <p:spPr>
          <a:xfrm flipH="1" flipV="1">
            <a:off x="228240" y="48006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72" name="Line 63"/>
          <p:cNvSpPr/>
          <p:nvPr/>
        </p:nvSpPr>
        <p:spPr>
          <a:xfrm flipV="1">
            <a:off x="2133720" y="4876560"/>
            <a:ext cx="3045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73" name="Text Box 64"/>
          <p:cNvSpPr/>
          <p:nvPr/>
        </p:nvSpPr>
        <p:spPr>
          <a:xfrm>
            <a:off x="818640" y="4862520"/>
            <a:ext cx="83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090d"/>
                </a:solidFill>
                <a:latin typeface="Times New Roman"/>
              </a:rPr>
              <a:t>109</a:t>
            </a:r>
            <a:r>
              <a:rPr b="0" lang="en-US" sz="1600" spc="-1" strike="noStrike">
                <a:solidFill>
                  <a:srgbClr val="09090d"/>
                </a:solidFill>
                <a:latin typeface="Times New Roman"/>
                <a:ea typeface="Times New Roman"/>
              </a:rPr>
              <a:t>°28´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троение метан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69"/>
          <p:cNvSpPr/>
          <p:nvPr/>
        </p:nvSpPr>
        <p:spPr>
          <a:xfrm>
            <a:off x="4284720" y="4508640"/>
            <a:ext cx="431640" cy="398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76" name="Text Box 70"/>
          <p:cNvSpPr/>
          <p:nvPr/>
        </p:nvSpPr>
        <p:spPr>
          <a:xfrm>
            <a:off x="5651640" y="4653000"/>
            <a:ext cx="519120" cy="3988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77" name="Text Box 71"/>
          <p:cNvSpPr/>
          <p:nvPr/>
        </p:nvSpPr>
        <p:spPr>
          <a:xfrm>
            <a:off x="6233040" y="2997360"/>
            <a:ext cx="2378160" cy="3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9090d"/>
                </a:solidFill>
                <a:latin typeface="Times New Roman"/>
              </a:rPr>
              <a:t>Гибридизованные облака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78" name="Text Box 72"/>
          <p:cNvSpPr/>
          <p:nvPr/>
        </p:nvSpPr>
        <p:spPr>
          <a:xfrm>
            <a:off x="4237920" y="2900520"/>
            <a:ext cx="163764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ff"/>
                </a:solidFill>
                <a:latin typeface="Times New Roman"/>
              </a:rPr>
              <a:t>Рисунок 1</a:t>
            </a: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79" name="Text Box 73"/>
          <p:cNvSpPr/>
          <p:nvPr/>
        </p:nvSpPr>
        <p:spPr>
          <a:xfrm>
            <a:off x="1982160" y="5734080"/>
            <a:ext cx="163764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ff"/>
                </a:solidFill>
                <a:latin typeface="Times New Roman"/>
              </a:rPr>
              <a:t>Рисунок 2</a:t>
            </a: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80" name="Text Box 74"/>
          <p:cNvSpPr/>
          <p:nvPr/>
        </p:nvSpPr>
        <p:spPr>
          <a:xfrm>
            <a:off x="6735240" y="1484280"/>
            <a:ext cx="163764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ff"/>
                </a:solidFill>
                <a:latin typeface="Times New Roman"/>
              </a:rPr>
              <a:t>Рисунок </a:t>
            </a: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81" name="Oval 75"/>
          <p:cNvSpPr/>
          <p:nvPr/>
        </p:nvSpPr>
        <p:spPr>
          <a:xfrm>
            <a:off x="6443640" y="2205000"/>
            <a:ext cx="36036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82" name="Oval 76"/>
          <p:cNvSpPr/>
          <p:nvPr/>
        </p:nvSpPr>
        <p:spPr>
          <a:xfrm>
            <a:off x="7596360" y="2205000"/>
            <a:ext cx="360360" cy="35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83" name="Oval 77"/>
          <p:cNvSpPr/>
          <p:nvPr/>
        </p:nvSpPr>
        <p:spPr>
          <a:xfrm>
            <a:off x="7020000" y="2205000"/>
            <a:ext cx="36036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84" name="Oval 78"/>
          <p:cNvSpPr/>
          <p:nvPr/>
        </p:nvSpPr>
        <p:spPr>
          <a:xfrm>
            <a:off x="7885080" y="1989000"/>
            <a:ext cx="36036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85" name="Oval 79"/>
          <p:cNvSpPr/>
          <p:nvPr/>
        </p:nvSpPr>
        <p:spPr>
          <a:xfrm>
            <a:off x="7308720" y="1989000"/>
            <a:ext cx="36036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86" name="Oval 80"/>
          <p:cNvSpPr/>
          <p:nvPr/>
        </p:nvSpPr>
        <p:spPr>
          <a:xfrm>
            <a:off x="8172360" y="2205000"/>
            <a:ext cx="36036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87" name="Oval 81"/>
          <p:cNvSpPr/>
          <p:nvPr/>
        </p:nvSpPr>
        <p:spPr>
          <a:xfrm>
            <a:off x="6732720" y="1989000"/>
            <a:ext cx="36036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88" name="Line 82"/>
          <p:cNvSpPr/>
          <p:nvPr/>
        </p:nvSpPr>
        <p:spPr>
          <a:xfrm flipV="1">
            <a:off x="6659640" y="2133360"/>
            <a:ext cx="288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89" name="Line 83"/>
          <p:cNvSpPr/>
          <p:nvPr/>
        </p:nvSpPr>
        <p:spPr>
          <a:xfrm>
            <a:off x="6948360" y="2133720"/>
            <a:ext cx="287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90" name="Line 84"/>
          <p:cNvSpPr/>
          <p:nvPr/>
        </p:nvSpPr>
        <p:spPr>
          <a:xfrm flipV="1">
            <a:off x="7236000" y="22050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91" name="Line 85"/>
          <p:cNvSpPr/>
          <p:nvPr/>
        </p:nvSpPr>
        <p:spPr>
          <a:xfrm>
            <a:off x="7451640" y="2205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92" name="Line 86"/>
          <p:cNvSpPr/>
          <p:nvPr/>
        </p:nvSpPr>
        <p:spPr>
          <a:xfrm flipV="1">
            <a:off x="7812000" y="2133720"/>
            <a:ext cx="2890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93" name="Line 87"/>
          <p:cNvSpPr/>
          <p:nvPr/>
        </p:nvSpPr>
        <p:spPr>
          <a:xfrm>
            <a:off x="8101080" y="213372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94" name="Line 88"/>
          <p:cNvSpPr/>
          <p:nvPr/>
        </p:nvSpPr>
        <p:spPr>
          <a:xfrm flipH="1">
            <a:off x="7451640" y="2276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95" name="Rectangle 89"/>
          <p:cNvSpPr/>
          <p:nvPr/>
        </p:nvSpPr>
        <p:spPr>
          <a:xfrm>
            <a:off x="6879240" y="270828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9090d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9090d"/>
                </a:solidFill>
                <a:latin typeface="Times New Roman"/>
              </a:rPr>
              <a:t>,154 </a:t>
            </a:r>
            <a:r>
              <a:rPr b="0" lang="ru-RU" sz="1600" spc="-1" strike="noStrike">
                <a:solidFill>
                  <a:srgbClr val="09090d"/>
                </a:solidFill>
                <a:latin typeface="Times New Roman"/>
              </a:rPr>
              <a:t>нм</a:t>
            </a: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cxnSp>
        <p:nvCxnSpPr>
          <p:cNvPr id="396" name="AutoShape 96"/>
          <p:cNvCxnSpPr>
            <a:stCxn id="388" idx="0"/>
            <a:endCxn id="389" idx="0"/>
          </p:cNvCxnSpPr>
          <p:nvPr/>
        </p:nvCxnSpPr>
        <p:spPr>
          <a:xfrm flipH="1" rot="16200000">
            <a:off x="6910920" y="2096640"/>
            <a:ext cx="72360" cy="577080"/>
          </a:xfrm>
          <a:prstGeom prst="curvedConnector5">
            <a:avLst>
              <a:gd name="adj1" fmla="val 417500"/>
              <a:gd name="adj2" fmla="val 50000"/>
              <a:gd name="adj3" fmla="val 4175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97" name="Line 97"/>
          <p:cNvSpPr/>
          <p:nvPr/>
        </p:nvSpPr>
        <p:spPr>
          <a:xfrm flipH="1" flipV="1">
            <a:off x="5219640" y="2421000"/>
            <a:ext cx="1728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D3FD-DA30-4B0E-BDFF-34D45E55B6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19:53:39Z</dcterms:created>
  <dc:creator>Айгуль</dc:creator>
  <dc:description/>
  <dc:language>en-US</dc:language>
  <cp:lastModifiedBy>Student</cp:lastModifiedBy>
  <dcterms:modified xsi:type="dcterms:W3CDTF">2013-05-03T09:29:52Z</dcterms:modified>
  <cp:revision>120</cp:revision>
  <dc:subject/>
  <dc:title>Презентация PowerPoint</dc:title>
</cp:coreProperties>
</file>